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7.xml" ContentType="application/vnd.openxmlformats-officedocument.presentationml.notesSlide+xml"/>
  <Override PartName="/ppt/_rels/presentation.xml.rels" ContentType="application/vnd.openxmlformats-package.relationships+xml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9.png" ContentType="image/png"/>
  <Override PartName="/ppt/media/projctor.wav" ContentType="audio/x-wav"/>
  <Override PartName="/ppt/media/image8.png" ContentType="image/png"/>
  <Override PartName="/ppt/media/chimes.wav" ContentType="audio/x-wav"/>
  <Override PartName="/ppt/media/image16.png" ContentType="image/png"/>
  <Override PartName="/ppt/media/image4.png" ContentType="image/png"/>
  <Override PartName="/ppt/media/image27.png" ContentType="image/png"/>
  <Override PartName="/ppt/media/image2.png" ContentType="image/png"/>
  <Override PartName="/ppt/media/image25.png" ContentType="image/png"/>
  <Override PartName="/ppt/media/image3.jpeg" ContentType="image/jpe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5.gif" ContentType="image/gif"/>
  <Override PartName="/ppt/media/image18.png" ContentType="image/png"/>
  <Override PartName="/ppt/media/image14.gif" ContentType="image/gif"/>
  <Override PartName="/ppt/media/image17.png" ContentType="image/png"/>
  <Override PartName="/ppt/media/image13.png" ContentType="image/png"/>
  <Override PartName="/ppt/media/image20.jpeg" ContentType="image/jpeg"/>
  <Override PartName="/ppt/media/image12.png" ContentType="image/png"/>
  <Override PartName="/ppt/media/image1.png" ContentType="image/png"/>
  <Override PartName="/ppt/media/image2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44.xml.rels" ContentType="application/vnd.openxmlformats-package.relationships+xml"/>
  <Override PartName="/ppt/slides/_rels/slide97.xml.rels" ContentType="application/vnd.openxmlformats-package.relationships+xml"/>
  <Override PartName="/ppt/slides/_rels/slide31.xml.rels" ContentType="application/vnd.openxmlformats-package.relationships+xml"/>
  <Override PartName="/ppt/slides/_rels/slide117.xml.rels" ContentType="application/vnd.openxmlformats-package.relationships+xml"/>
  <Override PartName="/ppt/slides/_rels/slide84.xml.rels" ContentType="application/vnd.openxmlformats-package.relationships+xml"/>
  <Override PartName="/ppt/slides/_rels/slide15.xml.rels" ContentType="application/vnd.openxmlformats-package.relationships+xml"/>
  <Override PartName="/ppt/slides/_rels/slide29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43.xml.rels" ContentType="application/vnd.openxmlformats-package.relationships+xml"/>
  <Override PartName="/ppt/slides/_rels/slide96.xml.rels" ContentType="application/vnd.openxmlformats-package.relationships+xml"/>
  <Override PartName="/ppt/slides/_rels/slide129.xml.rels" ContentType="application/vnd.openxmlformats-package.relationships+xml"/>
  <Override PartName="/ppt/slides/_rels/slide77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86.xml.rels" ContentType="application/vnd.openxmlformats-package.relationships+xml"/>
  <Override PartName="/ppt/slides/_rels/slide119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2.xml.rels" ContentType="application/vnd.openxmlformats-package.relationships+xml"/>
  <Override PartName="/ppt/slides/_rels/slide59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11.xml.rels" ContentType="application/vnd.openxmlformats-package.relationships+xml"/>
  <Override PartName="/ppt/slides/_rels/slide53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1.xml.rels" ContentType="application/vnd.openxmlformats-package.relationships+xml"/>
  <Override PartName="/ppt/slides/_rels/slide52.xml.rels" ContentType="application/vnd.openxmlformats-package.relationships+xml"/>
  <Override PartName="/ppt/slides/_rels/slide35.xml.rels" ContentType="application/vnd.openxmlformats-package.relationships+xml"/>
  <Override PartName="/ppt/slides/_rels/slide112.xml.rels" ContentType="application/vnd.openxmlformats-package.relationships+xml"/>
  <Override PartName="/ppt/slides/_rels/slide58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62.xml.rels" ContentType="application/vnd.openxmlformats-package.relationships+xml"/>
  <Override PartName="/ppt/slides/_rels/slide63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20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39.xml.rels" ContentType="application/vnd.openxmlformats-package.relationships+xml"/>
  <Override PartName="/ppt/slides/_rels/slide68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123.xml.rels" ContentType="application/vnd.openxmlformats-package.relationships+xml"/>
  <Override PartName="/ppt/slides/_rels/slide69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07.xml.rels" ContentType="application/vnd.openxmlformats-package.relationships+xml"/>
  <Override PartName="/ppt/slides/_rels/slide108.xml.rels" ContentType="application/vnd.openxmlformats-package.relationships+xml"/>
  <Override PartName="/ppt/slides/_rels/slide75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70.xml.rels" ContentType="application/vnd.openxmlformats-package.relationships+xml"/>
  <Override PartName="/ppt/slides/_rels/slide26.xml.rels" ContentType="application/vnd.openxmlformats-package.relationships+xml"/>
  <Override PartName="/ppt/slides/_rels/slide103.xml.rels" ContentType="application/vnd.openxmlformats-package.relationships+xml"/>
  <Override PartName="/ppt/slides/_rels/slide109.xml.rels" ContentType="application/vnd.openxmlformats-package.relationships+xml"/>
  <Override PartName="/ppt/slides/_rels/slide76.xml.rels" ContentType="application/vnd.openxmlformats-package.relationships+xml"/>
  <Override PartName="/ppt/slides/_rels/slide73.xml.rels" ContentType="application/vnd.openxmlformats-package.relationships+xml"/>
  <Override PartName="/ppt/slides/_rels/slide106.xml.rels" ContentType="application/vnd.openxmlformats-package.relationships+xml"/>
  <Override PartName="/ppt/slides/_rels/slide78.xml.rels" ContentType="application/vnd.openxmlformats-package.relationships+xml"/>
  <Override PartName="/ppt/slides/_rels/slide80.xml.rels" ContentType="application/vnd.openxmlformats-package.relationships+xml"/>
  <Override PartName="/ppt/slides/_rels/slide36.xml.rels" ContentType="application/vnd.openxmlformats-package.relationships+xml"/>
  <Override PartName="/ppt/slides/_rels/slide113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114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5.xml.rels" ContentType="application/vnd.openxmlformats-package.relationships+xml"/>
  <Override PartName="/ppt/slides/_rels/slide88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27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_rels/slide28.xml.rels" ContentType="application/vnd.openxmlformats-package.relationships+xml"/>
  <Override PartName="/ppt/slides/_rels/slide126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9.xml" ContentType="application/vnd.openxmlformats-officedocument.presentationml.slide+xml"/>
  <Override PartName="/ppt/slides/slide59.xml" ContentType="application/vnd.openxmlformats-officedocument.presentationml.slide+xml"/>
  <Override PartName="/ppt/slides/slide58.xml" ContentType="application/vnd.openxmlformats-officedocument.presentationml.slide+xml"/>
  <Override PartName="/ppt/slides/slide8.xml" ContentType="application/vnd.openxmlformats-officedocument.presentationml.slide+xml"/>
  <Override PartName="/ppt/slides/slide21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.xml" ContentType="application/vnd.openxmlformats-officedocument.presentationml.slide+xml"/>
  <Override PartName="/ppt/slides/slide108.xml" ContentType="application/vnd.openxmlformats-officedocument.presentationml.slide+xml"/>
  <Override PartName="/ppt/slides/slide2.xml" ContentType="application/vnd.openxmlformats-officedocument.presentationml.slide+xml"/>
  <Override PartName="/ppt/slides/slide42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81.xml" ContentType="application/vnd.openxmlformats-officedocument.presentationml.slide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8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51.xml" ContentType="application/vnd.openxmlformats-officedocument.presentationml.slide+xml"/>
  <Override PartName="/ppt/slides/slide8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9.xml" ContentType="application/vnd.openxmlformats-officedocument.presentationml.slide+xml"/>
  <Override PartName="/ppt/slides/slide111.xml" ContentType="application/vnd.openxmlformats-officedocument.presentationml.slide+xml"/>
  <Override PartName="/ppt/slides/slide15.xml" ContentType="application/vnd.openxmlformats-officedocument.presentationml.slide+xml"/>
  <Override PartName="/ppt/slides/slide83.xml" ContentType="application/vnd.openxmlformats-officedocument.presentationml.slide+xml"/>
  <Override PartName="/ppt/slides/slide128.xml" ContentType="application/vnd.openxmlformats-officedocument.presentationml.slide+xml"/>
  <Override PartName="/ppt/slides/slide33.xml" ContentType="application/vnd.openxmlformats-officedocument.presentationml.slide+xml"/>
  <Override PartName="/ppt/slides/slide52.xml" ContentType="application/vnd.openxmlformats-officedocument.presentationml.slide+xml"/>
  <Override PartName="/ppt/slides/slide129.xml" ContentType="application/vnd.openxmlformats-officedocument.presentationml.slide+xml"/>
  <Override PartName="/ppt/slides/slide30.xml" ContentType="application/vnd.openxmlformats-officedocument.presentationml.slide+xml"/>
  <Override PartName="/ppt/slides/slide34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41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44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107.xml" ContentType="application/vnd.openxmlformats-officedocument.presentationml.slide+xml"/>
  <Override PartName="/ppt/slides/slide79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78.xml" ContentType="application/vnd.openxmlformats-officedocument.presentationml.slide+xml"/>
  <Override PartName="/ppt/slides/slide106.xml" ContentType="application/vnd.openxmlformats-officedocument.presentationml.slide+xml"/>
  <Override PartName="/ppt/slides/slide17.xml" ContentType="application/vnd.openxmlformats-officedocument.presentationml.slide+xml"/>
  <Override PartName="/ppt/slides/slide85.xml" ContentType="application/vnd.openxmlformats-officedocument.presentationml.slide+xml"/>
  <Override PartName="/ppt/slides/slide113.xml" ContentType="application/vnd.openxmlformats-officedocument.presentationml.slide+xml"/>
  <Override PartName="/ppt/slides/slide18.xml" ContentType="application/vnd.openxmlformats-officedocument.presentationml.slide+xml"/>
  <Override PartName="/ppt/slides/slide86.xml" ContentType="application/vnd.openxmlformats-officedocument.presentationml.slide+xml"/>
  <Override PartName="/ppt/slides/slide114.xml" ContentType="application/vnd.openxmlformats-officedocument.presentationml.slide+xml"/>
  <Override PartName="/ppt/slides/slide19.xml" ContentType="application/vnd.openxmlformats-officedocument.presentationml.slide+xml"/>
  <Override PartName="/ppt/slides/slide87.xml" ContentType="application/vnd.openxmlformats-officedocument.presentationml.slide+xml"/>
  <Override PartName="/ppt/slides/slide115.xml" ContentType="application/vnd.openxmlformats-officedocument.presentationml.slide+xml"/>
  <Override PartName="/ppt/slides/slide88.xml" ContentType="application/vnd.openxmlformats-officedocument.presentationml.slide+xml"/>
  <Override PartName="/ppt/slides/slide116.xml" ContentType="application/vnd.openxmlformats-officedocument.presentationml.slide+xml"/>
  <Override PartName="/ppt/slides/slide89.xml" ContentType="application/vnd.openxmlformats-officedocument.presentationml.slide+xml"/>
  <Override PartName="/ppt/slides/slide117.xml" ContentType="application/vnd.openxmlformats-officedocument.presentationml.slide+xml"/>
  <Override PartName="/ppt/slides/slide118.xml" ContentType="application/vnd.openxmlformats-officedocument.presentationml.slide+xml"/>
  <Override PartName="/ppt/slides/slide27.xml" ContentType="application/vnd.openxmlformats-officedocument.presentationml.slide+xml"/>
  <Override PartName="/ppt/slides/slide95.xml" ContentType="application/vnd.openxmlformats-officedocument.presentationml.slide+xml"/>
  <Override PartName="/ppt/slides/slide123.xml" ContentType="application/vnd.openxmlformats-officedocument.presentationml.slide+xml"/>
  <Override PartName="/ppt/slides/slide28.xml" ContentType="application/vnd.openxmlformats-officedocument.presentationml.slide+xml"/>
  <Override PartName="/ppt/slides/slide96.xml" ContentType="application/vnd.openxmlformats-officedocument.presentationml.slide+xml"/>
  <Override PartName="/ppt/slides/slide124.xml" ContentType="application/vnd.openxmlformats-officedocument.presentationml.slide+xml"/>
  <Override PartName="/ppt/slides/slide29.xml" ContentType="application/vnd.openxmlformats-officedocument.presentationml.slide+xml"/>
  <Override PartName="/ppt/slides/slide97.xml" ContentType="application/vnd.openxmlformats-officedocument.presentationml.slide+xml"/>
  <Override PartName="/ppt/slides/slide125.xml" ContentType="application/vnd.openxmlformats-officedocument.presentationml.slide+xml"/>
  <Override PartName="/ppt/slides/slide98.xml" ContentType="application/vnd.openxmlformats-officedocument.presentationml.slide+xml"/>
  <Override PartName="/ppt/slides/slide1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  <p:sldId id="348" r:id="rId97"/>
    <p:sldId id="349" r:id="rId98"/>
    <p:sldId id="350" r:id="rId99"/>
    <p:sldId id="351" r:id="rId100"/>
    <p:sldId id="352" r:id="rId101"/>
    <p:sldId id="353" r:id="rId102"/>
    <p:sldId id="354" r:id="rId103"/>
    <p:sldId id="355" r:id="rId104"/>
    <p:sldId id="356" r:id="rId105"/>
    <p:sldId id="357" r:id="rId106"/>
    <p:sldId id="358" r:id="rId107"/>
    <p:sldId id="359" r:id="rId108"/>
    <p:sldId id="360" r:id="rId109"/>
    <p:sldId id="361" r:id="rId110"/>
    <p:sldId id="362" r:id="rId111"/>
    <p:sldId id="363" r:id="rId112"/>
    <p:sldId id="364" r:id="rId113"/>
    <p:sldId id="365" r:id="rId114"/>
    <p:sldId id="366" r:id="rId115"/>
    <p:sldId id="367" r:id="rId116"/>
    <p:sldId id="368" r:id="rId117"/>
    <p:sldId id="369" r:id="rId118"/>
    <p:sldId id="370" r:id="rId119"/>
    <p:sldId id="371" r:id="rId120"/>
    <p:sldId id="372" r:id="rId121"/>
    <p:sldId id="373" r:id="rId122"/>
    <p:sldId id="374" r:id="rId123"/>
    <p:sldId id="375" r:id="rId124"/>
    <p:sldId id="376" r:id="rId125"/>
    <p:sldId id="377" r:id="rId126"/>
    <p:sldId id="378" r:id="rId127"/>
    <p:sldId id="379" r:id="rId128"/>
    <p:sldId id="380" r:id="rId129"/>
    <p:sldId id="381" r:id="rId130"/>
    <p:sldId id="382" r:id="rId131"/>
    <p:sldId id="383" r:id="rId132"/>
    <p:sldId id="384" r:id="rId1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slide" Target="slides/slide93.xml"/><Relationship Id="rId98" Type="http://schemas.openxmlformats.org/officeDocument/2006/relationships/slide" Target="slides/slide94.xml"/><Relationship Id="rId99" Type="http://schemas.openxmlformats.org/officeDocument/2006/relationships/slide" Target="slides/slide95.xml"/><Relationship Id="rId100" Type="http://schemas.openxmlformats.org/officeDocument/2006/relationships/slide" Target="slides/slide96.xml"/><Relationship Id="rId101" Type="http://schemas.openxmlformats.org/officeDocument/2006/relationships/slide" Target="slides/slide97.xml"/><Relationship Id="rId102" Type="http://schemas.openxmlformats.org/officeDocument/2006/relationships/slide" Target="slides/slide98.xml"/><Relationship Id="rId103" Type="http://schemas.openxmlformats.org/officeDocument/2006/relationships/slide" Target="slides/slide99.xml"/><Relationship Id="rId104" Type="http://schemas.openxmlformats.org/officeDocument/2006/relationships/slide" Target="slides/slide100.xml"/><Relationship Id="rId105" Type="http://schemas.openxmlformats.org/officeDocument/2006/relationships/slide" Target="slides/slide101.xml"/><Relationship Id="rId106" Type="http://schemas.openxmlformats.org/officeDocument/2006/relationships/slide" Target="slides/slide102.xml"/><Relationship Id="rId107" Type="http://schemas.openxmlformats.org/officeDocument/2006/relationships/slide" Target="slides/slide103.xml"/><Relationship Id="rId108" Type="http://schemas.openxmlformats.org/officeDocument/2006/relationships/slide" Target="slides/slide104.xml"/><Relationship Id="rId109" Type="http://schemas.openxmlformats.org/officeDocument/2006/relationships/slide" Target="slides/slide105.xml"/><Relationship Id="rId110" Type="http://schemas.openxmlformats.org/officeDocument/2006/relationships/slide" Target="slides/slide106.xml"/><Relationship Id="rId111" Type="http://schemas.openxmlformats.org/officeDocument/2006/relationships/slide" Target="slides/slide107.xml"/><Relationship Id="rId112" Type="http://schemas.openxmlformats.org/officeDocument/2006/relationships/slide" Target="slides/slide108.xml"/><Relationship Id="rId113" Type="http://schemas.openxmlformats.org/officeDocument/2006/relationships/slide" Target="slides/slide109.xml"/><Relationship Id="rId114" Type="http://schemas.openxmlformats.org/officeDocument/2006/relationships/slide" Target="slides/slide110.xml"/><Relationship Id="rId115" Type="http://schemas.openxmlformats.org/officeDocument/2006/relationships/slide" Target="slides/slide111.xml"/><Relationship Id="rId116" Type="http://schemas.openxmlformats.org/officeDocument/2006/relationships/slide" Target="slides/slide112.xml"/><Relationship Id="rId117" Type="http://schemas.openxmlformats.org/officeDocument/2006/relationships/slide" Target="slides/slide113.xml"/><Relationship Id="rId118" Type="http://schemas.openxmlformats.org/officeDocument/2006/relationships/slide" Target="slides/slide114.xml"/><Relationship Id="rId119" Type="http://schemas.openxmlformats.org/officeDocument/2006/relationships/slide" Target="slides/slide115.xml"/><Relationship Id="rId120" Type="http://schemas.openxmlformats.org/officeDocument/2006/relationships/slide" Target="slides/slide116.xml"/><Relationship Id="rId121" Type="http://schemas.openxmlformats.org/officeDocument/2006/relationships/slide" Target="slides/slide117.xml"/><Relationship Id="rId122" Type="http://schemas.openxmlformats.org/officeDocument/2006/relationships/slide" Target="slides/slide118.xml"/><Relationship Id="rId123" Type="http://schemas.openxmlformats.org/officeDocument/2006/relationships/slide" Target="slides/slide119.xml"/><Relationship Id="rId124" Type="http://schemas.openxmlformats.org/officeDocument/2006/relationships/slide" Target="slides/slide120.xml"/><Relationship Id="rId125" Type="http://schemas.openxmlformats.org/officeDocument/2006/relationships/slide" Target="slides/slide121.xml"/><Relationship Id="rId126" Type="http://schemas.openxmlformats.org/officeDocument/2006/relationships/slide" Target="slides/slide122.xml"/><Relationship Id="rId127" Type="http://schemas.openxmlformats.org/officeDocument/2006/relationships/slide" Target="slides/slide123.xml"/><Relationship Id="rId128" Type="http://schemas.openxmlformats.org/officeDocument/2006/relationships/slide" Target="slides/slide124.xml"/><Relationship Id="rId129" Type="http://schemas.openxmlformats.org/officeDocument/2006/relationships/slide" Target="slides/slide125.xml"/><Relationship Id="rId130" Type="http://schemas.openxmlformats.org/officeDocument/2006/relationships/slide" Target="slides/slide126.xml"/><Relationship Id="rId131" Type="http://schemas.openxmlformats.org/officeDocument/2006/relationships/slide" Target="slides/slide127.xml"/><Relationship Id="rId132" Type="http://schemas.openxmlformats.org/officeDocument/2006/relationships/slide" Target="slides/slide128.xml"/><Relationship Id="rId133" Type="http://schemas.openxmlformats.org/officeDocument/2006/relationships/slide" Target="slides/slide129.xml"/><Relationship Id="rId1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E355F-84D9-4F9E-A7DA-24FBB21DF862}" type="datetime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小儿腹泻与液体疗法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5E8CA-F334-4547-9505-31F7A1AABE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602CD-AD66-45C5-B6EE-4A23FD9981D0}" type="datetime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724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6ca6"/>
                </a:solidFill>
                <a:latin typeface="Times New Roman"/>
              </a:rPr>
              <a:t>小儿腹泻与液体疗法</a:t>
            </a:r>
            <a:endParaRPr b="0" lang="en-US" sz="12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7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85B09-6671-4A76-8150-398CE9A3EE2B}" type="slidenum">
              <a:rPr b="0" lang="en-US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DDF7B-A838-437E-AA6C-687C3BF364E1}" type="datetime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734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6ca6"/>
                </a:solidFill>
                <a:latin typeface="Times New Roman"/>
              </a:rPr>
              <a:t>小儿腹泻与液体疗法</a:t>
            </a:r>
            <a:endParaRPr b="0" lang="en-US" sz="12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7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E31A5-4D08-4513-AFD2-D078DD05058F}" type="slidenum">
              <a:rPr b="0" lang="en-US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7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F2C19-59AF-4268-9CE9-1804E8404FE4}" type="datetime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729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6ca6"/>
                </a:solidFill>
                <a:latin typeface="Times New Roman"/>
              </a:rPr>
              <a:t>小儿腹泻与液体疗法</a:t>
            </a:r>
            <a:endParaRPr b="0" lang="en-US" sz="12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7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8CB40-4B9F-4C9F-B926-BD7AB2719D53}" type="slidenum">
              <a:rPr b="0" lang="en-US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7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5AEAA7-4849-486B-98E5-B7A72D094DD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9E1D11-E445-4BCE-ABA9-D976B70CF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BC02DF-F8A5-4638-8789-A49C2293B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F7EBA1-2FCB-463D-9C5A-222914E55C4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B302F5-8EC8-4C16-90DE-DB00B5B1C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9184E0-4FC2-46A6-9ECD-2A9F14273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322CEF-3F1B-404E-B58B-B5724AE76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6376CB-10A0-4F48-BBD7-4F2FBE6D9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343A08-187D-4D98-956D-6993987CF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008AF2-5517-4EBD-B170-1890250AA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6B922F-3347-491F-A825-BB43C4E24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71DC20-BCB1-418C-A15F-DAEB95C31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F14DA-7D43-4500-9540-124B3ECBFE6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46ca6"/>
                  </a:solidFill>
                  <a:latin typeface="Times New Roman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46ca6"/>
                  </a:solidFill>
                  <a:latin typeface="Times New Roman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46ca6"/>
                  </a:solidFill>
                  <a:latin typeface="Times New Roman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46ca6"/>
                  </a:solidFill>
                  <a:latin typeface="Times New Roman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46ca6"/>
                  </a:solidFill>
                  <a:latin typeface="Times New Roman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46ca6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" Target="slide98.xml"/><Relationship Id="rId2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" Target="slide98.xml"/><Relationship Id="rId2" Type="http://schemas.openxmlformats.org/officeDocument/2006/relationships/slide" Target="slide103.xml"/><Relationship Id="rId3" Type="http://schemas.openxmlformats.org/officeDocument/2006/relationships/slide" Target="slide103.xml"/><Relationship Id="rId4" Type="http://schemas.openxmlformats.org/officeDocument/2006/relationships/slide" Target="slide103.xml"/><Relationship Id="rId5" Type="http://schemas.openxmlformats.org/officeDocument/2006/relationships/slide" Target="slide104.xml"/><Relationship Id="rId6" Type="http://schemas.openxmlformats.org/officeDocument/2006/relationships/slide" Target="slide104.xml"/><Relationship Id="rId7" Type="http://schemas.openxmlformats.org/officeDocument/2006/relationships/slide" Target="slide104.xml"/><Relationship Id="rId8" Type="http://schemas.openxmlformats.org/officeDocument/2006/relationships/slide" Target="slide105.xml"/><Relationship Id="rId9" Type="http://schemas.openxmlformats.org/officeDocument/2006/relationships/slide" Target="slide105.xml"/><Relationship Id="rId10" Type="http://schemas.openxmlformats.org/officeDocument/2006/relationships/slide" Target="slide105.xml"/><Relationship Id="rId11" Type="http://schemas.openxmlformats.org/officeDocument/2006/relationships/slide" Target="slide102.xml"/><Relationship Id="rId12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" Target="slide101.xml"/><Relationship Id="rId2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" Target="slide101.xml"/><Relationship Id="rId2" Type="http://schemas.openxmlformats.org/officeDocument/2006/relationships/slide" Target="slide101.xml"/><Relationship Id="rId3" Type="http://schemas.openxmlformats.org/officeDocument/2006/relationships/slide" Target="slide101.xml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" Target="slide101.xml"/><Relationship Id="rId2" Type="http://schemas.openxmlformats.org/officeDocument/2006/relationships/slide" Target="slide101.xml"/><Relationship Id="rId3" Type="http://schemas.openxmlformats.org/officeDocument/2006/relationships/slide" Target="slide101.xml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" Target="slide101.xml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23.xml"/><Relationship Id="rId3" Type="http://schemas.openxmlformats.org/officeDocument/2006/relationships/slide" Target="slide28.xml"/><Relationship Id="rId4" Type="http://schemas.openxmlformats.org/officeDocument/2006/relationships/slide" Target="slide39.xml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39.xml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slide" Target="slide24.xml"/><Relationship Id="rId3" Type="http://schemas.openxmlformats.org/officeDocument/2006/relationships/slide" Target="slide25.xml"/><Relationship Id="rId4" Type="http://schemas.openxmlformats.org/officeDocument/2006/relationships/slide" Target="slide26.xml"/><Relationship Id="rId5" Type="http://schemas.openxmlformats.org/officeDocument/2006/relationships/slide" Target="slide27.xml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slide" Target="slide29.xml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slide" Target="slide31.xml"/><Relationship Id="rId3" Type="http://schemas.openxmlformats.org/officeDocument/2006/relationships/slide" Target="slide30.xml"/><Relationship Id="rId4" Type="http://schemas.openxmlformats.org/officeDocument/2006/relationships/slide" Target="slide32.xml"/><Relationship Id="rId5" Type="http://schemas.openxmlformats.org/officeDocument/2006/relationships/slide" Target="slide33.xml"/><Relationship Id="rId6" Type="http://schemas.openxmlformats.org/officeDocument/2006/relationships/slide" Target="slide34.xml"/><Relationship Id="rId7" Type="http://schemas.openxmlformats.org/officeDocument/2006/relationships/slide" Target="slide36.xml"/><Relationship Id="rId8" Type="http://schemas.openxmlformats.org/officeDocument/2006/relationships/slide" Target="slide37.xml"/><Relationship Id="rId9" Type="http://schemas.openxmlformats.org/officeDocument/2006/relationships/slide" Target="slide38.xml"/><Relationship Id="rId10" Type="http://schemas.openxmlformats.org/officeDocument/2006/relationships/slide" Target="slide35.xml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slide39.xml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" Target="slide29.xml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slide" Target="slide40.xml"/><Relationship Id="rId3" Type="http://schemas.openxmlformats.org/officeDocument/2006/relationships/slide" Target="slide41.xml"/><Relationship Id="rId4" Type="http://schemas.openxmlformats.org/officeDocument/2006/relationships/slide" Target="slide42.xml"/><Relationship Id="rId5" Type="http://schemas.openxmlformats.org/officeDocument/2006/relationships/slide" Target="slide43.xml"/><Relationship Id="rId6" Type="http://schemas.openxmlformats.org/officeDocument/2006/relationships/slide" Target="slide35.xml"/><Relationship Id="rId7" Type="http://schemas.openxmlformats.org/officeDocument/2006/relationships/slide" Target="slide45.xml"/><Relationship Id="rId8" Type="http://schemas.openxmlformats.org/officeDocument/2006/relationships/slide" Target="slide46.xml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" Target="slide124.xml"/><Relationship Id="rId7" Type="http://schemas.openxmlformats.org/officeDocument/2006/relationships/slide" Target="slide6.xml"/><Relationship Id="rId8" Type="http://schemas.openxmlformats.org/officeDocument/2006/relationships/slide" Target="slide7.xml"/><Relationship Id="rId9" Type="http://schemas.openxmlformats.org/officeDocument/2006/relationships/slide" Target="slide5.xml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6.png"/><Relationship Id="rId13" Type="http://schemas.openxmlformats.org/officeDocument/2006/relationships/slide" Target="slide6.xml"/><Relationship Id="rId1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slide39.xml"/><Relationship Id="rId2" Type="http://schemas.openxmlformats.org/officeDocument/2006/relationships/slide" Target="slide39.xml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" Target="slide39.xml"/><Relationship Id="rId2" Type="http://schemas.openxmlformats.org/officeDocument/2006/relationships/slide" Target="slide39.xml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39.xml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" Target="slide39.xml"/><Relationship Id="rId2" Type="http://schemas.openxmlformats.org/officeDocument/2006/relationships/slide" Target="slide39.xml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" Target="slide39.xml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" Target="slide39.xml"/><Relationship Id="rId2" Type="http://schemas.openxmlformats.org/officeDocument/2006/relationships/slide" Target="slide39.xml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39.xml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48.xml"/><Relationship Id="rId3" Type="http://schemas.openxmlformats.org/officeDocument/2006/relationships/slide" Target="slide49.xml"/><Relationship Id="rId4" Type="http://schemas.openxmlformats.org/officeDocument/2006/relationships/image" Target="../media/image14.gif"/><Relationship Id="rId5" Type="http://schemas.openxmlformats.org/officeDocument/2006/relationships/image" Target="../media/image15.gif"/><Relationship Id="rId6" Type="http://schemas.openxmlformats.org/officeDocument/2006/relationships/image" Target="../media/image15.gi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" Target="slide47.xml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" Target="slide47.xml"/><Relationship Id="rId2" Type="http://schemas.openxmlformats.org/officeDocument/2006/relationships/slide" Target="slide50.xml"/><Relationship Id="rId3" Type="http://schemas.openxmlformats.org/officeDocument/2006/relationships/slide" Target="slide51.xml"/><Relationship Id="rId4" Type="http://schemas.openxmlformats.org/officeDocument/2006/relationships/slide" Target="slide52.xml"/><Relationship Id="rId5" Type="http://schemas.openxmlformats.org/officeDocument/2006/relationships/slide" Target="slide53.xml"/><Relationship Id="rId6" Type="http://schemas.openxmlformats.org/officeDocument/2006/relationships/slide" Target="slide60.xml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hyperlink" Target="file:///E:/&#36164;&#26009;/&#35838;&#20214;/&#26032;&#24314;%20Microsoft%20PowerPoint%20&#28436;&#31034;&#25991;&#31295;.ppt" TargetMode="External"/><Relationship Id="rId3" Type="http://schemas.openxmlformats.org/officeDocument/2006/relationships/slide" Target="slide47.xml"/><Relationship Id="rId4" Type="http://schemas.openxmlformats.org/officeDocument/2006/relationships/hyperlink" Target="file:///E:/&#36164;&#26009;/&#35838;&#20214;/&#26032;&#24314;%20Microsoft%20PowerPoint%20&#28436;&#31034;&#25991;&#31295;.ppt" TargetMode="External"/><Relationship Id="rId5" Type="http://schemas.openxmlformats.org/officeDocument/2006/relationships/slide" Target="slide63.xml"/><Relationship Id="rId6" Type="http://schemas.openxmlformats.org/officeDocument/2006/relationships/hyperlink" Target="file:///E:/&#36164;&#26009;/&#35838;&#20214;/&#26032;&#24314;%20Microsoft%20PowerPoint%20&#28436;&#31034;&#25991;&#31295;.ppt" TargetMode="External"/><Relationship Id="rId7" Type="http://schemas.openxmlformats.org/officeDocument/2006/relationships/slide" Target="slide114.xml"/><Relationship Id="rId8" Type="http://schemas.openxmlformats.org/officeDocument/2006/relationships/hyperlink" Target="file:///E:/&#36164;&#26009;/&#35838;&#20214;/&#26032;&#24314;%20Microsoft%20PowerPoint%20&#28436;&#31034;&#25991;&#31295;.ppt" TargetMode="External"/><Relationship Id="rId9" Type="http://schemas.openxmlformats.org/officeDocument/2006/relationships/slide" Target="slide120.xml"/><Relationship Id="rId10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" Target="slide49.xml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" Target="slide49.xml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" Target="slide49.xml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" Target="slide49.xml"/><Relationship Id="rId2" Type="http://schemas.openxmlformats.org/officeDocument/2006/relationships/slide" Target="slide54.xml"/><Relationship Id="rId3" Type="http://schemas.openxmlformats.org/officeDocument/2006/relationships/slide" Target="slide55.xml"/><Relationship Id="rId4" Type="http://schemas.openxmlformats.org/officeDocument/2006/relationships/slide" Target="slide59.xml"/><Relationship Id="rId5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" Target="slide53.xml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" Target="slide53.xml"/><Relationship Id="rId2" Type="http://schemas.openxmlformats.org/officeDocument/2006/relationships/slide" Target="slide56.xml"/><Relationship Id="rId3" Type="http://schemas.openxmlformats.org/officeDocument/2006/relationships/slide" Target="slide57.xml"/><Relationship Id="rId4" Type="http://schemas.openxmlformats.org/officeDocument/2006/relationships/slide" Target="slide58.xml"/><Relationship Id="rId5" Type="http://schemas.openxmlformats.org/officeDocument/2006/relationships/slide" Target="slide58.xml"/><Relationship Id="rId6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" Target="slide55.xml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" Target="slide55.xml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" Target="slide55.xml"/><Relationship Id="rId2" Type="http://schemas.openxmlformats.org/officeDocument/2006/relationships/slide" Target="slide55.xml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" Target="slide53.xml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" Target="slide49.xml"/><Relationship Id="rId2" Type="http://schemas.openxmlformats.org/officeDocument/2006/relationships/slide" Target="slide61.xml"/><Relationship Id="rId3" Type="http://schemas.openxmlformats.org/officeDocument/2006/relationships/slide" Target="slide62.xml"/><Relationship Id="rId4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" Target="slide60.xml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" Target="slide60.xml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64.xml"/><Relationship Id="rId3" Type="http://schemas.openxmlformats.org/officeDocument/2006/relationships/slide" Target="slide82.xml"/><Relationship Id="rId4" Type="http://schemas.openxmlformats.org/officeDocument/2006/relationships/slide" Target="slide86.xml"/><Relationship Id="rId5" Type="http://schemas.openxmlformats.org/officeDocument/2006/relationships/slide" Target="slide95.xml"/><Relationship Id="rId6" Type="http://schemas.openxmlformats.org/officeDocument/2006/relationships/slide" Target="slide98.xml"/><Relationship Id="rId7" Type="http://schemas.openxmlformats.org/officeDocument/2006/relationships/slide" Target="slide110.xml"/><Relationship Id="rId8" Type="http://schemas.openxmlformats.org/officeDocument/2006/relationships/slide" Target="slide113.xml"/><Relationship Id="rId9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" Target="slide63.xml"/><Relationship Id="rId2" Type="http://schemas.openxmlformats.org/officeDocument/2006/relationships/slide" Target="slide65.xml"/><Relationship Id="rId3" Type="http://schemas.openxmlformats.org/officeDocument/2006/relationships/slide" Target="slide71.xml"/><Relationship Id="rId4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" Target="slide64.xml"/><Relationship Id="rId2" Type="http://schemas.openxmlformats.org/officeDocument/2006/relationships/slide" Target="slide64.xml"/><Relationship Id="rId3" Type="http://schemas.openxmlformats.org/officeDocument/2006/relationships/slide" Target="slide66.xml"/><Relationship Id="rId4" Type="http://schemas.openxmlformats.org/officeDocument/2006/relationships/slide" Target="slide70.xml"/><Relationship Id="rId5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" Target="slide65.xml"/><Relationship Id="rId2" Type="http://schemas.openxmlformats.org/officeDocument/2006/relationships/slide" Target="slide67.xml"/><Relationship Id="rId3" Type="http://schemas.openxmlformats.org/officeDocument/2006/relationships/slide" Target="slide68.xml"/><Relationship Id="rId4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" Target="slide66.xml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" Target="slide66.xml"/><Relationship Id="rId2" Type="http://schemas.openxmlformats.org/officeDocument/2006/relationships/slide" Target="slide69.xml"/><Relationship Id="rId3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" Target="slide68.xm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8.xml"/><Relationship Id="rId3" Type="http://schemas.openxmlformats.org/officeDocument/2006/relationships/slide" Target="slide19.xml"/><Relationship Id="rId4" Type="http://schemas.openxmlformats.org/officeDocument/2006/relationships/image" Target="../media/image7.png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" Target="slide65.xml"/><Relationship Id="rId2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" Target="slide64.xml"/><Relationship Id="rId2" Type="http://schemas.openxmlformats.org/officeDocument/2006/relationships/slide" Target="slide72.xml"/><Relationship Id="rId3" Type="http://schemas.openxmlformats.org/officeDocument/2006/relationships/slide" Target="slide73.xml"/><Relationship Id="rId4" Type="http://schemas.openxmlformats.org/officeDocument/2006/relationships/slide" Target="slide74.xml"/><Relationship Id="rId5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" Target="slide71.xml"/><Relationship Id="rId2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" Target="slide71.xml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" Target="slide71.xml"/><Relationship Id="rId2" Type="http://schemas.openxmlformats.org/officeDocument/2006/relationships/slide" Target="slide75.xml"/><Relationship Id="rId3" Type="http://schemas.openxmlformats.org/officeDocument/2006/relationships/slide" Target="slide76.xml"/><Relationship Id="rId4" Type="http://schemas.openxmlformats.org/officeDocument/2006/relationships/slide" Target="slide77.xml"/><Relationship Id="rId5" Type="http://schemas.openxmlformats.org/officeDocument/2006/relationships/slide" Target="slide77.xml"/><Relationship Id="rId6" Type="http://schemas.openxmlformats.org/officeDocument/2006/relationships/slide" Target="slide78.xml"/><Relationship Id="rId7" Type="http://schemas.openxmlformats.org/officeDocument/2006/relationships/slide" Target="slide78.xml"/><Relationship Id="rId8" Type="http://schemas.openxmlformats.org/officeDocument/2006/relationships/slide" Target="slide79.xml"/><Relationship Id="rId9" Type="http://schemas.openxmlformats.org/officeDocument/2006/relationships/slide" Target="slide79.xml"/><Relationship Id="rId10" Type="http://schemas.openxmlformats.org/officeDocument/2006/relationships/slide" Target="slide80.xml"/><Relationship Id="rId11" Type="http://schemas.openxmlformats.org/officeDocument/2006/relationships/slide" Target="slide81.xml"/><Relationship Id="rId12" Type="http://schemas.openxmlformats.org/officeDocument/2006/relationships/slide" Target="slide81.xml"/><Relationship Id="rId13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" Target="slide74.xml"/><Relationship Id="rId2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" Target="slide74.xml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" Target="slide74.xml"/><Relationship Id="rId2" Type="http://schemas.openxmlformats.org/officeDocument/2006/relationships/slide" Target="slide74.xml"/><Relationship Id="rId3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" Target="slide74.xml"/><Relationship Id="rId2" Type="http://schemas.openxmlformats.org/officeDocument/2006/relationships/slide" Target="slide74.xml"/><Relationship Id="rId3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" Target="slide74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17.xml"/><Relationship Id="rId3" Type="http://schemas.openxmlformats.org/officeDocument/2006/relationships/slide" Target="slide17.xml"/><Relationship Id="rId4" Type="http://schemas.openxmlformats.org/officeDocument/2006/relationships/slide" Target="slide9.xml"/><Relationship Id="rId5" Type="http://schemas.openxmlformats.org/officeDocument/2006/relationships/slide" Target="slide9.xml"/><Relationship Id="rId6" Type="http://schemas.openxmlformats.org/officeDocument/2006/relationships/slide" Target="slide10.xml"/><Relationship Id="rId7" Type="http://schemas.openxmlformats.org/officeDocument/2006/relationships/slide" Target="slide11.xml"/><Relationship Id="rId8" Type="http://schemas.openxmlformats.org/officeDocument/2006/relationships/slide" Target="slide12.xml"/><Relationship Id="rId9" Type="http://schemas.openxmlformats.org/officeDocument/2006/relationships/slide" Target="slide12.xml"/><Relationship Id="rId10" Type="http://schemas.openxmlformats.org/officeDocument/2006/relationships/slide" Target="slide13.xml"/><Relationship Id="rId11" Type="http://schemas.openxmlformats.org/officeDocument/2006/relationships/slide" Target="slide14.xml"/><Relationship Id="rId12" Type="http://schemas.openxmlformats.org/officeDocument/2006/relationships/slide" Target="slide14.xml"/><Relationship Id="rId13" Type="http://schemas.openxmlformats.org/officeDocument/2006/relationships/slide" Target="slide15.xml"/><Relationship Id="rId14" Type="http://schemas.openxmlformats.org/officeDocument/2006/relationships/slide" Target="slide15.xml"/><Relationship Id="rId15" Type="http://schemas.openxmlformats.org/officeDocument/2006/relationships/slide" Target="slide16.xml"/><Relationship Id="rId16" Type="http://schemas.openxmlformats.org/officeDocument/2006/relationships/image" Target="../media/image8.png"/><Relationship Id="rId17" Type="http://schemas.openxmlformats.org/officeDocument/2006/relationships/image" Target="../media/image8.png"/><Relationship Id="rId18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" Target="slide74.xml"/><Relationship Id="rId2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" Target="slide74.xml"/><Relationship Id="rId2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" Target="slide63.xml"/><Relationship Id="rId2" Type="http://schemas.openxmlformats.org/officeDocument/2006/relationships/slide" Target="slide83.xml"/><Relationship Id="rId3" Type="http://schemas.openxmlformats.org/officeDocument/2006/relationships/slide" Target="slide84.xml"/><Relationship Id="rId4" Type="http://schemas.openxmlformats.org/officeDocument/2006/relationships/slide" Target="slide85.xml"/><Relationship Id="rId5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" Target="slide82.xml"/><Relationship Id="rId2" Type="http://schemas.openxmlformats.org/officeDocument/2006/relationships/slide" Target="slide82.xml"/><Relationship Id="rId3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" Target="slide82.xml"/><Relationship Id="rId2" Type="http://schemas.openxmlformats.org/officeDocument/2006/relationships/slide" Target="slide82.xml"/><Relationship Id="rId3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" Target="slide82.xml"/><Relationship Id="rId2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" Target="slide63.xml"/><Relationship Id="rId2" Type="http://schemas.openxmlformats.org/officeDocument/2006/relationships/slide" Target="slide87.xml"/><Relationship Id="rId3" Type="http://schemas.openxmlformats.org/officeDocument/2006/relationships/slide" Target="slide88.xml"/><Relationship Id="rId4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" Target="slide86.xml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" Target="slide86.xml"/><Relationship Id="rId2" Type="http://schemas.openxmlformats.org/officeDocument/2006/relationships/slide" Target="slide90.xml"/><Relationship Id="rId3" Type="http://schemas.openxmlformats.org/officeDocument/2006/relationships/slide" Target="slide89.xml"/><Relationship Id="rId4" Type="http://schemas.openxmlformats.org/officeDocument/2006/relationships/slide" Target="slide91.xml"/><Relationship Id="rId5" Type="http://schemas.openxmlformats.org/officeDocument/2006/relationships/slide" Target="slide92.xml"/><Relationship Id="rId6" Type="http://schemas.openxmlformats.org/officeDocument/2006/relationships/slide" Target="slide93.xml"/><Relationship Id="rId7" Type="http://schemas.openxmlformats.org/officeDocument/2006/relationships/slide" Target="slide94.xml"/><Relationship Id="rId8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" Target="slide88.xm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" Target="slide88.xml"/><Relationship Id="rId2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" Target="slide88.xml"/><Relationship Id="rId2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" Target="slide88.xml"/><Relationship Id="rId2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" Target="slide88.xml"/><Relationship Id="rId2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" Target="slide88.xml"/><Relationship Id="rId2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" Target="slide63.xml"/><Relationship Id="rId2" Type="http://schemas.openxmlformats.org/officeDocument/2006/relationships/slide" Target="slide96.xml"/><Relationship Id="rId3" Type="http://schemas.openxmlformats.org/officeDocument/2006/relationships/slide" Target="slide97.xml"/><Relationship Id="rId4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" Target="slide95.xml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" Target="slide95.xml"/><Relationship Id="rId2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" Target="slide63.xml"/><Relationship Id="rId2" Type="http://schemas.openxmlformats.org/officeDocument/2006/relationships/slide" Target="slide99.xml"/><Relationship Id="rId3" Type="http://schemas.openxmlformats.org/officeDocument/2006/relationships/slide" Target="slide101.xml"/><Relationship Id="rId4" Type="http://schemas.openxmlformats.org/officeDocument/2006/relationships/slide" Target="slide106.xml"/><Relationship Id="rId5" Type="http://schemas.openxmlformats.org/officeDocument/2006/relationships/slide" Target="slide100.xml"/><Relationship Id="rId6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" Target="slide98.xml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9280" y="2636640"/>
            <a:ext cx="6480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66"/>
                </a:solidFill>
                <a:latin typeface="Verdana"/>
              </a:rPr>
              <a:t>第七节   </a:t>
            </a:r>
            <a:br>
              <a:rPr sz="6000"/>
            </a:br>
            <a:r>
              <a:rPr b="1" lang="zh-CN" sz="6000" spc="-1" strike="noStrike">
                <a:solidFill>
                  <a:srgbClr val="ffff66"/>
                </a:solidFill>
                <a:latin typeface="Verdana"/>
              </a:rPr>
              <a:t>腹部评估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blinds dir="vert"/>
    <p:sndAc>
      <p:stSnd>
        <p:snd r:embed="rId1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23D1F-83EB-457F-B9B9-A0990508C6D1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8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42640" y="2599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           </a:t>
            </a: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腹上角（胸骨下角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763640" y="2421000"/>
            <a:ext cx="6656400" cy="25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为两侧肋弓的夹角，剑突根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用于判断体形及肝脾的测量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AE062-55E6-4048-ACA5-3B4413AE80FD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9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脾大及伴随症状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脾肿大伴压痛：脾脓肿、脾栓塞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脾肿大伴压痛及摩擦感：脾周围炎、脾栓塞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脾大表面光滑：慢性疟疾、黑热病、慢粒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脾大表面凹凸不平：脾肿瘤、结核、淋巴肉瘤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127EB-76A6-471D-B2AE-2BCD24DFDC39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0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脾大的测量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甲乙线（</a:t>
            </a:r>
            <a:r>
              <a:rPr b="1" lang="en-US" sz="2800" spc="-1" strike="noStrike" u="sng">
                <a:solidFill>
                  <a:srgbClr val="ddb523"/>
                </a:solidFill>
                <a:uFillTx/>
                <a:latin typeface="Verdana"/>
                <a:hlinkClick r:id="rId3" action="ppaction://hlinksldjump"/>
              </a:rPr>
              <a:t>1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4" action="ppaction://hlinksldjump"/>
              </a:rPr>
              <a:t>线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5" action="ppaction://hlinksldjump"/>
              </a:rPr>
              <a:t>甲丙线（</a:t>
            </a:r>
            <a:r>
              <a:rPr b="1" lang="en-US" sz="2800" spc="-1" strike="noStrike" u="sng">
                <a:solidFill>
                  <a:srgbClr val="ddb523"/>
                </a:solidFill>
                <a:uFillTx/>
                <a:latin typeface="Verdana"/>
                <a:hlinkClick r:id="rId6" action="ppaction://hlinksldjump"/>
              </a:rPr>
              <a:t>2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7" action="ppaction://hlinksldjump"/>
              </a:rPr>
              <a:t>线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8" action="ppaction://hlinksldjump"/>
              </a:rPr>
              <a:t>丁戊线（</a:t>
            </a:r>
            <a:r>
              <a:rPr b="1" lang="en-US" sz="2800" spc="-1" strike="noStrike" u="sng">
                <a:solidFill>
                  <a:srgbClr val="ddb523"/>
                </a:solidFill>
                <a:uFillTx/>
                <a:latin typeface="Verdana"/>
                <a:hlinkClick r:id="rId9" action="ppaction://hlinksldjump"/>
              </a:rPr>
              <a:t>3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10" action="ppaction://hlinksldjump"/>
              </a:rPr>
              <a:t>线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11" action="ppaction://hlinksldjump"/>
              </a:rPr>
              <a:t>表示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9844D-5807-4444-AEE4-912CD6C96A24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0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表示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正数表示： 如脾大超过正中线，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                    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测右缘到正中线的最大距离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                    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如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+3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厘米等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负数表示：未超过正中线，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                   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则测脾右缘到正中线的最短距离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                   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如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-2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厘米等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灯片编号占位符 4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F8C4D-2597-4DD0-AD2E-8ACF49F0EFA1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08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甲乙线（</a:t>
            </a:r>
            <a:r>
              <a:rPr b="0" lang="en-US" sz="32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1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3" action="ppaction://hlinksldjump"/>
              </a:rPr>
              <a:t>线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41148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45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在锁骨中线上左肋弓缘至脾下缘间的距离（厘米）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4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45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轻度肿大时适用，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  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只测此线即可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611" name="Picture 8" descr="未命名"/>
          <p:cNvPicPr/>
          <p:nvPr/>
        </p:nvPicPr>
        <p:blipFill>
          <a:blip r:embed="rId4"/>
          <a:stretch/>
        </p:blipFill>
        <p:spPr>
          <a:xfrm>
            <a:off x="4114800" y="1295280"/>
            <a:ext cx="4800600" cy="487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灯片编号占位符 4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5BAB9-FB9B-466C-BB3F-F4BD65F78718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13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甲丙线（</a:t>
            </a:r>
            <a:r>
              <a:rPr b="0" lang="en-US" sz="32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2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3" action="ppaction://hlinksldjump"/>
              </a:rPr>
              <a:t>线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3810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85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在锁骨中线上左肋弓点到最远脾尖之间的距离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616" name="Picture 8" descr="未命名"/>
          <p:cNvPicPr/>
          <p:nvPr/>
        </p:nvPicPr>
        <p:blipFill>
          <a:blip r:embed="rId4"/>
          <a:stretch/>
        </p:blipFill>
        <p:spPr>
          <a:xfrm>
            <a:off x="4114800" y="1295280"/>
            <a:ext cx="4800600" cy="487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灯片编号占位符 4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C8177-CE38-4807-9BF9-ED32A2E7617D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18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丁戊线（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线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-360" y="22096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脾右缘到正中线的距离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621" name="Picture 6" descr="未命名"/>
          <p:cNvPicPr/>
          <p:nvPr/>
        </p:nvPicPr>
        <p:blipFill>
          <a:blip r:embed="rId2"/>
          <a:stretch/>
        </p:blipFill>
        <p:spPr>
          <a:xfrm>
            <a:off x="4114800" y="1295280"/>
            <a:ext cx="4800600" cy="487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7525C-F59F-478C-91ED-BA8C0AFB222A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2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106632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</a:rPr>
              <a:t>脾大分度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3059280" y="1773000"/>
            <a:ext cx="42796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轻度肿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中度肿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高度肿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1EEE3-0831-4E35-8065-E76EA4DDBBE0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2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</a:rPr>
              <a:t>轻度肿大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250920" y="1915920"/>
            <a:ext cx="86040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</a:rPr>
              <a:t>深吸气时，脾在肋缘下不超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</a:rPr>
              <a:t>2cm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</a:rPr>
              <a:t>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</a:rPr>
              <a:t>见于急慢性肝炎、伤寒、感染性心内膜炎等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4C2AE-D95F-438D-AAA6-560DC7932FD3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3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中度肿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837720" y="175248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</a:rPr>
              <a:t>脾下缘超过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</a:rPr>
              <a:t>2cm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</a:rPr>
              <a:t>至脐水平线以上者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</a:rPr>
              <a:t>见于肝硬化、慢性淋巴性白血病等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56CE1-379D-48CE-B600-68330FFC856D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3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高度肿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610920" y="1557360"/>
            <a:ext cx="82803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</a:rPr>
              <a:t>脾下缘超过脐水平线或前正中线，即巨脾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</a:rPr>
              <a:t>见于慢性淋巴性白血病、淋巴瘤等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F577C-BB4B-4246-9361-FBA6BE2E39FE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8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42640" y="2599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          </a:t>
            </a: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腹中线（腹白线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71640" y="184464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为前正中线的延续，为腹部四区分法的垂直线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05D99-0907-4358-97A9-3F76807BFA02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3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</a:rPr>
              <a:t>肾触诊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方法：一般用双手触诊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常见病变压痛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临床意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866ED-62C8-4AE9-8973-8B52859A256F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4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常见病变压痛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-360" y="1523880"/>
            <a:ext cx="8839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肋脊点：第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12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肋与脊柱形成的夹角顶点，又称肋脊角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肋腰点：第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12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肋骨和腰肌外缘形成的夹角顶点，又称肋腰角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上输尿管点：位于腹直肌外缘平脐处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5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4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中输尿管点：位于两髂前上棘连线与通过耻骨结节所做垂直                         线的交点上，相当于输尿管进入骨盆腔之处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6B548-66AB-4E4D-A046-463296762AD8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4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临床意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〉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肋脊点、肋腰点出现压痛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             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肾盂肾炎、肾脓肿、肾结核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〉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上输尿管和中输尿管点出现压痛 ：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              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输尿管结石或化脓性炎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04CFA-2D15-47DC-859F-17336D77BEB5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5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膀胱触诊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108000" y="1412640"/>
            <a:ext cx="8640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方法：单手滑行触诊法：以左手自脐水平向耻骨方向触诊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      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膀胱内有尿液充盈时胀大，触之有囊性感，不易推动，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       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手压时有尿感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1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轻度肿大：仅在耻骨联合之上触及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2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中度肿大：可在耻骨上方触及横置的椭圆形的膀胱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3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明显肿大：下腹部高度膨隆，膀胱呈球形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  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膀胱胀大常见于尿路梗阻、昏迷、 腰麻后等原因所致的尿潴留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6A6C0-ADEE-4737-AB34-BEB6B48912C1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5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3530520" y="304560"/>
            <a:ext cx="53848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</a:rPr>
              <a:t>叩诊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2268360" y="1699920"/>
            <a:ext cx="481824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7760" indent="0" algn="just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腹部叩诊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7760" indent="0" algn="just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移动性浊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7760" indent="0" algn="just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肝浊音上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7760" indent="0" algn="just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叩击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7760"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2ED3D-EA88-40EA-A44C-1DEAAE6B4269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5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腹部叩诊音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990720" y="22096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正常腹部叩诊音呈鼓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其音响程度与胃肠道充气量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7B26C-4CEB-48E7-9DB3-8E6BAB687A58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6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移动性浊音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腹部叩诊时叩诊音变浊，且可随体位改变而移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〉</a:t>
            </a:r>
            <a:r>
              <a:rPr b="1" lang="en-US" sz="2400" spc="-1" strike="noStrike">
                <a:solidFill>
                  <a:srgbClr val="8ac8de"/>
                </a:solidFill>
                <a:latin typeface="Arial"/>
                <a:ea typeface="Times New Roman"/>
              </a:rPr>
              <a:t> </a:t>
            </a:r>
            <a:r>
              <a:rPr b="1" lang="en-US" sz="24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当腹腔内游离腹水量超过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1000ml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以上时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     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移动性浊音阳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〉</a:t>
            </a:r>
            <a:r>
              <a:rPr b="1" lang="en-US" sz="2400" spc="-1" strike="noStrike">
                <a:solidFill>
                  <a:srgbClr val="8ac8de"/>
                </a:solidFill>
                <a:latin typeface="Arial"/>
                <a:ea typeface="Times New Roman"/>
              </a:rPr>
              <a:t> </a:t>
            </a:r>
            <a:r>
              <a:rPr b="1" lang="en-US" sz="24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液波震颤常需有大量腹水时才可测得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〉</a:t>
            </a:r>
            <a:r>
              <a:rPr b="1" lang="en-US" sz="2400" spc="-1" strike="noStrike">
                <a:solidFill>
                  <a:srgbClr val="8ac8de"/>
                </a:solidFill>
                <a:latin typeface="Arial"/>
                <a:ea typeface="Times New Roman"/>
              </a:rPr>
              <a:t> </a:t>
            </a:r>
            <a:r>
              <a:rPr b="1" lang="en-US" sz="24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腹水量少时，取膝肘位叩诊，脐处叩诊呈浊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66" name="WordArt 5"/>
          <p:cNvSpPr txBox="1"/>
          <p:nvPr/>
        </p:nvSpPr>
        <p:spPr>
          <a:xfrm>
            <a:off x="5003640" y="5589720"/>
            <a:ext cx="3657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</a:rPr>
              <a:t>误认为腹水的情况</a:t>
            </a:r>
            <a:endParaRPr b="0" lang="en-US" sz="2400" spc="1" strike="noStrike">
              <a:ln w="1260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7CAFE-2D40-411A-BDEC-DA3C18C886D0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6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误认为腹水的情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-360" y="1752480"/>
            <a:ext cx="94489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〈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〉</a:t>
            </a:r>
            <a:r>
              <a:rPr b="1" lang="en-US" sz="2000" spc="-1" strike="noStrike">
                <a:solidFill>
                  <a:srgbClr val="8ac8de"/>
                </a:solidFill>
                <a:latin typeface="Arial"/>
                <a:ea typeface="Times New Roman"/>
              </a:rPr>
              <a:t> </a:t>
            </a:r>
            <a:r>
              <a:rPr b="1" lang="en-US" sz="20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肠管内有大量液体潴留时，可因患者体位改变产生移动性浊音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〈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〉</a:t>
            </a:r>
            <a:r>
              <a:rPr b="1" lang="en-US" sz="2000" spc="-1" strike="noStrike">
                <a:solidFill>
                  <a:srgbClr val="8ac8de"/>
                </a:solidFill>
                <a:latin typeface="Arial"/>
                <a:ea typeface="Times New Roman"/>
              </a:rPr>
              <a:t> </a:t>
            </a:r>
            <a:r>
              <a:rPr b="1" lang="en-US" sz="20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巨大的卵巢囊肿可误认为腹水。与腹水的鉴别：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a 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卵巢囊肿不同于腹水，仰卧时卵巢囊肿的浊音在腹中部，鼓音区在腹部两侧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b 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卵巢囊肿的浊音无移动性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671" name="Picture 4" descr=""/>
          <p:cNvPicPr/>
          <p:nvPr/>
        </p:nvPicPr>
        <p:blipFill>
          <a:blip r:embed="rId1"/>
          <a:stretch/>
        </p:blipFill>
        <p:spPr>
          <a:xfrm>
            <a:off x="3995640" y="3645000"/>
            <a:ext cx="1887480" cy="2374920"/>
          </a:xfrm>
          <a:prstGeom prst="rect">
            <a:avLst/>
          </a:prstGeom>
          <a:ln w="0">
            <a:noFill/>
          </a:ln>
        </p:spPr>
      </p:pic>
      <p:pic>
        <p:nvPicPr>
          <p:cNvPr id="672" name="Picture 5" descr=""/>
          <p:cNvPicPr/>
          <p:nvPr/>
        </p:nvPicPr>
        <p:blipFill>
          <a:blip r:embed="rId2"/>
          <a:stretch/>
        </p:blipFill>
        <p:spPr>
          <a:xfrm>
            <a:off x="6804000" y="3645000"/>
            <a:ext cx="1687680" cy="2376360"/>
          </a:xfrm>
          <a:prstGeom prst="rect">
            <a:avLst/>
          </a:prstGeom>
          <a:ln w="0">
            <a:noFill/>
          </a:ln>
        </p:spPr>
      </p:pic>
      <p:sp>
        <p:nvSpPr>
          <p:cNvPr id="673" name="Text Box 6"/>
          <p:cNvSpPr/>
          <p:nvPr/>
        </p:nvSpPr>
        <p:spPr>
          <a:xfrm>
            <a:off x="4654440" y="607392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Times New Roman"/>
              </a:rPr>
              <a:t>腹水</a:t>
            </a:r>
            <a:endParaRPr b="0" lang="en-US" sz="2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74" name="Text Box 7"/>
          <p:cNvSpPr/>
          <p:nvPr/>
        </p:nvSpPr>
        <p:spPr>
          <a:xfrm>
            <a:off x="7326360" y="607392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Times New Roman"/>
              </a:rPr>
              <a:t>卵巢囊肿</a:t>
            </a:r>
            <a:endParaRPr b="0" lang="en-US" sz="2000" spc="-1" strike="noStrike">
              <a:solidFill>
                <a:srgbClr val="046ca6"/>
              </a:solidFill>
              <a:latin typeface="Times New Roman"/>
            </a:endParaRPr>
          </a:p>
        </p:txBody>
      </p:sp>
    </p:spTree>
  </p:cSld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04A96-1F86-482D-B55A-A6A7721622D3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7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肝浊音上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68000" y="1676160"/>
            <a:ext cx="83516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右锁骨中线第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5~6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肋间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〉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肺气肿：可使肝下界下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〉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严重腹水、肝大  ：使肝上界上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〉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胃肠穿孔（气体逸出，进入腹腔）：肝浊音可消失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6D222-0F44-43F6-AC90-FB5BA1A61DC1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8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叩击痛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85341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方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左手平放在被检脏器的体表位置上，右手握拳叩击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手背。如患者感到疼痛，称叩击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6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正常人各脏器无叩击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B9DE4-B5C5-4CD7-B053-9EF8121B01FC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9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99640" y="2599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                        </a:t>
            </a:r>
            <a:r>
              <a:rPr b="1" lang="en-US" sz="3600" spc="-1" strike="noStrike">
                <a:solidFill>
                  <a:srgbClr val="046ca6"/>
                </a:solidFill>
                <a:latin typeface="Verdana"/>
              </a:rPr>
              <a:t> </a:t>
            </a: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脐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476000" y="1916280"/>
            <a:ext cx="6923160" cy="287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是腹部中心，位于第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～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4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腰椎之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是腹部四区分法、阑尾压痛点及腰椎穿刺的定位标志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F8082-643E-41A9-98DD-A5E61115AA28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8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2987640" y="333360"/>
            <a:ext cx="58672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</a:rPr>
              <a:t>听诊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3348000" y="2276280"/>
            <a:ext cx="3959280" cy="29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肠鸣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振水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465EF-9CAA-4BA3-BF5E-AE7DD4E4AB57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8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</a:rPr>
              <a:t>肠鸣音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228240" y="1828800"/>
            <a:ext cx="8915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肠蠕动产生的声音正常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4~5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次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/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分（脐部明显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〉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肠鸣音亢进：大于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10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次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/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分，见于急性肠炎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〉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肠鸣音减弱或消失：持续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3~5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分钟以上才听到一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  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次或听不到肠鸣音。见于肠麻痹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1B678-7F3E-4F3A-9354-331D49241EE7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9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振水音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250920" y="1371600"/>
            <a:ext cx="86644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方法：四指连续迅速地冲击患者上腹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7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〉</a:t>
            </a: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Times New Roman"/>
              </a:rPr>
              <a:t> 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正常人仅在饭后多饮时出现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7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〉</a:t>
            </a: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Times New Roman"/>
              </a:rPr>
              <a:t> 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幽门梗阻、胃扩张：空腹或饭后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6~8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小时以上，胃部仍有振水音，则提示胃排空不良。见于幽门梗阻、胃扩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0FF32-6907-4AF6-B93C-403DC2D9C608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9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</a:rPr>
              <a:t>课后小结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3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8ac8de"/>
                </a:solidFill>
                <a:latin typeface="Verdana"/>
              </a:rPr>
              <a:t>腹部检查是体格检查的重要组成部分；腹部检查内容多、复杂；主要包括视、触、叩、听检查，期中触诊是腹部主要的检查方法。</a:t>
            </a:r>
            <a:endParaRPr b="1" lang="en-US" sz="1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3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8ac8de"/>
                </a:solidFill>
                <a:latin typeface="Verdana"/>
              </a:rPr>
              <a:t>视诊：腹部外形、呼吸运动、腹壁静脉曲、胃肠型和蠕动波。在腹部视诊的检查过程中，要仔细对腹部表面的脏器轮廓、包块、蠕动波进行观察，结合其他检查方法对腹部检查做出正确的、有意义的评估。</a:t>
            </a:r>
            <a:endParaRPr b="1" lang="en-US" sz="1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3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8ac8de"/>
                </a:solidFill>
                <a:latin typeface="Verdana"/>
              </a:rPr>
              <a:t>听诊：肠鸣音、振水音、血管杂音。为了避免触诊引起胃肠蠕动增加，使肠鸣音发生变化，腹部检查的顺序为视、听、触、叩，但记录时为了统一格式仍按视、触、叩、听的顺序。</a:t>
            </a:r>
            <a:endParaRPr b="1" lang="en-US" sz="1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3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8ac8de"/>
                </a:solidFill>
                <a:latin typeface="Verdana"/>
              </a:rPr>
              <a:t>叩诊：脏器叩诊、移动性浊音、叩痛。正确掌握叩诊某些腹腔脏器边界位置及有无叩痛，腹腔内积气积液情况，进一步验证视诊与触诊的结果。</a:t>
            </a:r>
            <a:endParaRPr b="1" lang="en-US" sz="1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3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8ac8de"/>
                </a:solidFill>
                <a:latin typeface="Verdana"/>
              </a:rPr>
              <a:t>触诊：腹壁紧张度、压痛和反跳痛、脏器触诊。触诊是腹部检查中最重要的一步，必须掌握各种触诊的正确手法和顺序。</a:t>
            </a:r>
            <a:endParaRPr b="1" lang="en-US" sz="1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3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8ac8de"/>
                </a:solidFill>
                <a:latin typeface="Verdana"/>
              </a:rPr>
              <a:t>腹部评估可以帮助我们了解腹部脏器的一些病变情况，掌握腹部评估中的一些异常和正常情况，可以帮助护士在护理患者时及时发现问题及时上报，对于腹部评估的方法必须反复练习才能掌握。 </a:t>
            </a:r>
            <a:endParaRPr b="1" lang="en-US" sz="1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87A4C-8596-413F-B7EF-022D06083B15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70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</a:rPr>
              <a:t>课后习题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2916360" y="1413000"/>
            <a:ext cx="36907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选择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填空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名词解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简答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案例分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2A285-E05C-4942-912B-7873FC0368F3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70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</a:rPr>
              <a:t>选择题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1.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急性胆囊炎时，下列哪项为阳性（   ）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A  Murphy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征   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B  Courvoisier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征    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C  Oliver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征    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D  Grey-Turnet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征    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E  Cullen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征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2.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腹部触及包块时，包块与周围组织粘连，不易推动，压痛明显者，应考虑（  ）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A  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良性肿瘤   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B  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恶性肿瘤   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C  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囊肿   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D  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炎性肿块   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E  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游离脏器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3. 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女，</a:t>
            </a: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30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岁，</a:t>
            </a: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小时前无诱因突然上腹刀割样疼痛，不敢直腰，腹肌紧张压痛、反跳痛明显，肝浊音界消失，应首先考虑（   ）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A  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阑尾炎穿孔    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B  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宫外孕破裂   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C  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消化性溃疡急性穿孔   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D  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绞窄性肠梗阻 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E  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急性出血坏死性胰腺炎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4.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男，</a:t>
            </a: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34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岁，主诉腹痛，腹部肠鸣音</a:t>
            </a: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20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次</a:t>
            </a: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/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分，且音调高呈金属音，最大可能为（   ）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A  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急性肠炎      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B  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胃扩张      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C  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幽门梗阻   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D  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机械性肠梗阻    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E  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急性腹膜炎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8980B-2838-4FB2-ACB9-B8CDFCFEFDF0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70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</a:rPr>
              <a:t>填空题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.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腹膜刺激征指</a:t>
            </a:r>
            <a:r>
              <a:rPr b="1" lang="zh-CN" sz="2800" spc="-1" strike="noStrike" u="sng">
                <a:solidFill>
                  <a:srgbClr val="8ac8de"/>
                </a:solidFill>
                <a:uFillTx/>
                <a:latin typeface="Verdana"/>
              </a:rPr>
              <a:t>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、</a:t>
            </a:r>
            <a:r>
              <a:rPr b="1" lang="zh-CN" sz="2800" spc="-1" strike="noStrike" u="sng">
                <a:solidFill>
                  <a:srgbClr val="8ac8de"/>
                </a:solidFill>
                <a:uFillTx/>
                <a:latin typeface="Verdana"/>
              </a:rPr>
              <a:t>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、</a:t>
            </a:r>
            <a:r>
              <a:rPr b="1" lang="zh-CN" sz="2800" spc="-1" strike="noStrike" u="sng">
                <a:solidFill>
                  <a:srgbClr val="8ac8de"/>
                </a:solidFill>
                <a:uFillTx/>
                <a:latin typeface="Verdana"/>
              </a:rPr>
              <a:t>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7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.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肠梗阻时，在腹壁上可看到</a:t>
            </a:r>
            <a:r>
              <a:rPr b="1" lang="zh-CN" sz="2800" spc="-1" strike="noStrike" u="sng">
                <a:solidFill>
                  <a:srgbClr val="8ac8de"/>
                </a:solidFill>
                <a:uFillTx/>
                <a:latin typeface="Verdana"/>
              </a:rPr>
              <a:t>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蠕动波和</a:t>
            </a:r>
            <a:r>
              <a:rPr b="1" lang="zh-CN" sz="2800" spc="-1" strike="noStrike" u="sng">
                <a:solidFill>
                  <a:srgbClr val="8ac8de"/>
                </a:solidFill>
                <a:uFillTx/>
                <a:latin typeface="Verdana"/>
              </a:rPr>
              <a:t>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FC084-E103-4E5A-8BA3-5A048CFDE897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71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</a:rPr>
              <a:t>名词解释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1979280" y="1267920"/>
            <a:ext cx="469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.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移动性浊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.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肠鸣音亢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.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板状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94660-2E66-4DB5-A67F-43067DAA25EB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71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</a:rPr>
              <a:t>简答题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0" y="1371240"/>
            <a:ext cx="9468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1.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何为肠鸣音亢进？何为肠鸣音减弱或消失？其临床意义如何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2.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腹部触诊时如触及肿块，应注意描述肿块的哪些内容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?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巨大卵巢囊肿与腹水如何鉴别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AEEB6-1685-4451-B8FD-74899AC536B5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72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</a:rPr>
              <a:t>案例分析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0" y="1413000"/>
            <a:ext cx="91440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．患者女性，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50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岁，有乙肝病史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20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年，近来感腹胀而就诊。查体：面部见蜘蛛痣，腹肌柔软，移动性浊音阳性。请回答：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）根据该病人病史及临床表现，你考虑此病人目前的医学诊断是什么？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）该病人治疗后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个月复查，查体移动性浊音消失，提示发生了什么变化？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）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年后复查，查体出现液波震颤提示病人发生了什么变化？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．一患者起病急，上腹部痛，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小时后转右下腹痛伴恶心呕吐，体温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37.8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℃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。查体：位于脐与右髂前上棘中外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1/3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交界处出现明显固定的压痛和反跳痛，局部腹壁紧张。请问：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）你首先考虑该患者发生了什么情况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?      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）其诊断依据是什么？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B4D88-6556-4B1B-A782-5CB8A123DCEB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9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99640" y="33336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                 </a:t>
            </a: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髂前上棘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</a:rPr>
              <a:t> 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6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髂棘前方的突出点，为腹部九区分法、阑尾压痛点的定位标志及骨髓穿刺的部位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AF670-B162-4881-B603-2F8C7C30F0A7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0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42640" y="2599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                  </a:t>
            </a: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腹直肌外缘</a:t>
            </a:r>
            <a:r>
              <a:rPr b="0" lang="zh-CN" sz="3600" spc="-1" strike="noStrike" u="sng">
                <a:solidFill>
                  <a:srgbClr val="ddb523"/>
                </a:solidFill>
                <a:uFillTx/>
                <a:latin typeface="Arial"/>
                <a:hlinkClick r:id="rId2" action="ppaction://hlinksldjump"/>
              </a:rPr>
              <a:t> 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476000" y="1700280"/>
            <a:ext cx="6753240" cy="27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4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抬头抬肩时可明显辨认，相当于锁骨中线的延续，右侧腹直肌外缘与肋弓下缘的交界处为胆囊点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4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常为手术切口的位置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138FD-EE61-494A-B3EE-FAD203DD19D3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0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99640" y="2599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                 </a:t>
            </a: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腹股沟韧带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26920" y="1052280"/>
            <a:ext cx="7772400" cy="29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是腹部体表的下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.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为寻找股动、静脉和腹股沟疝通过部位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6678A-8EF0-4EF9-ACDB-99A9692310EC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0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26560" y="33336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                      </a:t>
            </a: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肋脊角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828800" y="2666880"/>
            <a:ext cx="68580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背部两侧第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12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肋骨与脊柱的交角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.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为检查肾叩痛的位置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.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F0DB3-E648-4544-8A5C-75203BDA7461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1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耻骨联合</a:t>
            </a:r>
            <a:r>
              <a:rPr b="0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826560" y="2133720"/>
            <a:ext cx="861084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</a:rPr>
              <a:t>为腹中线最下部的骨性标志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灯片编号占位符 4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77D00-43E1-4166-B856-5BBF24C04BF3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16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体表标志示意图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8" name="Picture 8" descr="腹部前面体表标志图"/>
          <p:cNvPicPr/>
          <p:nvPr/>
        </p:nvPicPr>
        <p:blipFill>
          <a:blip r:embed="rId2"/>
          <a:stretch/>
        </p:blipFill>
        <p:spPr>
          <a:xfrm>
            <a:off x="1187280" y="1376280"/>
            <a:ext cx="7500960" cy="453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灯片编号占位符 1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D91FC-E163-4315-B7E8-F64C982753BA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20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2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1BBD7-8482-445E-A830-D28B6F714D7E}" type="slidenum">
              <a:rPr b="0" lang="en-US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995640" y="333000"/>
            <a:ext cx="486432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                  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腹部分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2916360" y="2204640"/>
            <a:ext cx="396072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4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       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四区分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ct val="14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        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3" action="ppaction://hlinksldjump"/>
              </a:rPr>
              <a:t>九区分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ct val="14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         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ea typeface="黑体"/>
                <a:hlinkClick r:id="rId4" action="ppaction://hlinksldjump"/>
              </a:rPr>
              <a:t>七区分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224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225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  <p:sp>
          <p:nvSpPr>
            <p:cNvPr id="226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  <p:sp>
          <p:nvSpPr>
            <p:cNvPr id="227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</p:grpSp>
      <p:sp>
        <p:nvSpPr>
          <p:cNvPr id="228" name="Text Box 8"/>
          <p:cNvSpPr/>
          <p:nvPr/>
        </p:nvSpPr>
        <p:spPr>
          <a:xfrm>
            <a:off x="1991160" y="2276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29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30" name="Text Box 10"/>
          <p:cNvSpPr/>
          <p:nvPr/>
        </p:nvSpPr>
        <p:spPr>
          <a:xfrm>
            <a:off x="1979640" y="306864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31" name="AutoShape 16"/>
          <p:cNvSpPr/>
          <p:nvPr/>
        </p:nvSpPr>
        <p:spPr>
          <a:xfrm>
            <a:off x="1763640" y="3789360"/>
            <a:ext cx="679680" cy="665280"/>
          </a:xfrm>
          <a:prstGeom prst="hexagon">
            <a:avLst>
              <a:gd name="adj" fmla="val 25541"/>
              <a:gd name="vf" fmla="val 115470"/>
            </a:avLst>
          </a:prstGeom>
          <a:blipFill rotWithShape="0">
            <a:blip r:embed="rId8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32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33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34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35" name="灯片编号占位符 21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52D62-2FF2-41D5-935E-111DFCAA3A34}" type="slidenum">
              <a:rPr b="0" lang="en-US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36" name="Text Box 17"/>
          <p:cNvSpPr/>
          <p:nvPr/>
        </p:nvSpPr>
        <p:spPr>
          <a:xfrm>
            <a:off x="1971720" y="393372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5A0AB-40DA-49E8-87F9-CACE1EA9C495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1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Verdana"/>
              </a:rPr>
              <a:t>学习目标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识记： 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．熟记腹壁静脉曲张的概念、移动性浊音的概念、腹膜刺激征的概念、压痛与反跳痛的概念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．描述肠鸣音活跃、亢进、减弱和消失的判断标准、腹部触诊的注意事项、常见腹部压痛点及位置、脾大的分度、腹部的体表标志及分区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理解： 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．知道腹部各区与腹腔脏器的对应关系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．归纳腹部视诊、触诊的异常体征及临床意义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运用： 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运用本节所学知识能正确对腹部进行视、触、叩、听检查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灯片编号占位符 4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DDE35-E526-4C4B-B49E-09DE3B3EBB22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38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            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七区分法示意图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4221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41" name="Picture 8" descr="复件 腹部体表分区示意图图(七分法)"/>
          <p:cNvPicPr/>
          <p:nvPr/>
        </p:nvPicPr>
        <p:blipFill>
          <a:blip r:embed="rId2"/>
          <a:stretch/>
        </p:blipFill>
        <p:spPr>
          <a:xfrm>
            <a:off x="0" y="1295280"/>
            <a:ext cx="9144000" cy="556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灯片编号占位符 4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7AB29-100F-4C27-B8D8-52A0BF912B90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43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            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九区分法示意图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45" name="Picture 5" descr="复件 腹部体表分区示意图图(九区分法)"/>
          <p:cNvPicPr/>
          <p:nvPr/>
        </p:nvPicPr>
        <p:blipFill>
          <a:blip r:embed="rId2"/>
          <a:stretch/>
        </p:blipFill>
        <p:spPr>
          <a:xfrm>
            <a:off x="1692360" y="1268280"/>
            <a:ext cx="6913440" cy="439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灯片编号占位符 4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79D36-0580-4FB5-970F-1FD2F8756DEC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47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              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四区分法示意图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49" name="Picture 1029" descr="腹部体表分区示意图图(四分法)"/>
          <p:cNvPicPr/>
          <p:nvPr/>
        </p:nvPicPr>
        <p:blipFill>
          <a:blip r:embed="rId2"/>
          <a:stretch/>
        </p:blipFill>
        <p:spPr>
          <a:xfrm>
            <a:off x="900000" y="1413000"/>
            <a:ext cx="7856640" cy="475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C6E7D-0154-442E-9972-059EA43B8557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5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99640" y="40428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                  </a:t>
            </a: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四区分法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900000" y="177336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通过脐划一水平线与一垂直线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904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 algn="just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两线相交将腹部分为四区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904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 algn="just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右上腹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 algn="just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3" action="ppaction://hlinksldjump"/>
              </a:rPr>
              <a:t>左上腹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 algn="just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4" action="ppaction://hlinksldjump"/>
              </a:rPr>
              <a:t>右下腹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 algn="just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5" action="ppaction://hlinksldjump"/>
              </a:rPr>
              <a:t>左下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4" name="WordArt 4"/>
          <p:cNvSpPr txBox="1"/>
          <p:nvPr/>
        </p:nvSpPr>
        <p:spPr>
          <a:xfrm>
            <a:off x="6877080" y="2637000"/>
            <a:ext cx="1371600" cy="140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示意图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160BF-DE5A-4EC2-9E9A-8F0E50D426CA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5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右上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826920" y="1341000"/>
            <a:ext cx="7723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幽门                              十二指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肝右叶                           胆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胰头                              右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右肾上腺                        结肠肝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部分小肠                        腹主动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部分升结肠及横结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8FDB4-861E-438A-A8A3-05A01D1DBD4E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6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26560" y="40464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左上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533520" y="1483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胃                                 部分小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部分横结肠和降结肠          肝左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脾                                 胰体及胰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左肾                              左肾上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结肠脾曲及腹主动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375CE-5FBE-4495-92D3-589AC57922DF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6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右下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899640" y="148392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部分小肠                          盲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阑尾                                部分升结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充盈的膀胱                       增大的子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右侧输尿管                       男性右侧精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女性右侧卵巢及输卵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9B67A-DC22-49E0-86A5-BD29C1F57693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6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左下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899640" y="148392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部分小肠                          部分降结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乙状结肠                          充盈的膀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左输尿管                          增大的子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女性左侧卵巢及输卵管        男性左侧精索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22A8F-8D72-4851-BE6C-8EB696E02E74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7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                    </a:t>
            </a: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九区分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由两条水平线和两条垂直线将腹部分为井字形的九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上面的水平线为两侧肋弓下缘连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下面的水平线为两侧髂前上棘连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通过左右髂前上棘至腹中线连线的中点划两条垂直线，将腹部分为九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各区的主要脏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5" name="WordArt 4"/>
          <p:cNvSpPr txBox="1"/>
          <p:nvPr/>
        </p:nvSpPr>
        <p:spPr>
          <a:xfrm>
            <a:off x="6804000" y="2133720"/>
            <a:ext cx="1655640" cy="14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示意图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5FBE5-5E41-42B9-A169-074483D2E136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7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各区的主要脏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340000" y="1196640"/>
            <a:ext cx="534672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0" name="Text Box 5"/>
          <p:cNvSpPr/>
          <p:nvPr/>
        </p:nvSpPr>
        <p:spPr>
          <a:xfrm>
            <a:off x="5318280" y="1916280"/>
            <a:ext cx="5490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81" name="Rectangle 7"/>
          <p:cNvSpPr/>
          <p:nvPr/>
        </p:nvSpPr>
        <p:spPr>
          <a:xfrm>
            <a:off x="3953880" y="2133720"/>
            <a:ext cx="912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db523"/>
                </a:solidFill>
                <a:uFillTx/>
                <a:latin typeface="Times New Roman"/>
                <a:hlinkClick r:id="rId2" action="ppaction://hlinksldjump"/>
              </a:rPr>
              <a:t>左侧腹部</a:t>
            </a: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82" name="Rectangle 8"/>
          <p:cNvSpPr/>
          <p:nvPr/>
        </p:nvSpPr>
        <p:spPr>
          <a:xfrm>
            <a:off x="1577520" y="2133720"/>
            <a:ext cx="912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db523"/>
                </a:solidFill>
                <a:uFillTx/>
                <a:latin typeface="Times New Roman"/>
                <a:hlinkClick r:id="rId3" action="ppaction://hlinksldjump"/>
              </a:rPr>
              <a:t>左上腹部</a:t>
            </a: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83" name="Text Box 13"/>
          <p:cNvSpPr/>
          <p:nvPr/>
        </p:nvSpPr>
        <p:spPr>
          <a:xfrm>
            <a:off x="6330240" y="2205000"/>
            <a:ext cx="912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db523"/>
                </a:solidFill>
                <a:uFillTx/>
                <a:latin typeface="Times New Roman"/>
                <a:hlinkClick r:id="rId4" action="ppaction://hlinksldjump"/>
              </a:rPr>
              <a:t>左下腹部</a:t>
            </a: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84" name="Text Box 14"/>
          <p:cNvSpPr/>
          <p:nvPr/>
        </p:nvSpPr>
        <p:spPr>
          <a:xfrm>
            <a:off x="1577520" y="3141720"/>
            <a:ext cx="912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db523"/>
                </a:solidFill>
                <a:uFillTx/>
                <a:latin typeface="Times New Roman"/>
                <a:hlinkClick r:id="rId5" action="ppaction://hlinksldjump"/>
              </a:rPr>
              <a:t>右上腹部</a:t>
            </a: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85" name="Text Box 15"/>
          <p:cNvSpPr/>
          <p:nvPr/>
        </p:nvSpPr>
        <p:spPr>
          <a:xfrm>
            <a:off x="3953880" y="3141720"/>
            <a:ext cx="912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db523"/>
                </a:solidFill>
                <a:uFillTx/>
                <a:latin typeface="Times New Roman"/>
                <a:hlinkClick r:id="rId6" action="ppaction://hlinksldjump"/>
              </a:rPr>
              <a:t>右侧腹部</a:t>
            </a: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86" name="Text Box 16"/>
          <p:cNvSpPr/>
          <p:nvPr/>
        </p:nvSpPr>
        <p:spPr>
          <a:xfrm>
            <a:off x="6257520" y="3141720"/>
            <a:ext cx="912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db523"/>
                </a:solidFill>
                <a:uFillTx/>
                <a:latin typeface="Times New Roman"/>
                <a:hlinkClick r:id="rId7" action="ppaction://hlinksldjump"/>
              </a:rPr>
              <a:t>右下腹部</a:t>
            </a: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87" name="Text Box 17"/>
          <p:cNvSpPr/>
          <p:nvPr/>
        </p:nvSpPr>
        <p:spPr>
          <a:xfrm>
            <a:off x="1661040" y="4292640"/>
            <a:ext cx="729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db523"/>
                </a:solidFill>
                <a:uFillTx/>
                <a:latin typeface="Times New Roman"/>
                <a:hlinkClick r:id="rId8" action="ppaction://hlinksldjump"/>
              </a:rPr>
              <a:t>上腹部</a:t>
            </a: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88" name="Text Box 19"/>
          <p:cNvSpPr/>
          <p:nvPr/>
        </p:nvSpPr>
        <p:spPr>
          <a:xfrm>
            <a:off x="3964320" y="4365720"/>
            <a:ext cx="729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db523"/>
                </a:solidFill>
                <a:uFillTx/>
                <a:latin typeface="Times New Roman"/>
                <a:hlinkClick r:id="rId9" action="ppaction://hlinksldjump"/>
              </a:rPr>
              <a:t>中腹部</a:t>
            </a: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89" name="Text Box 20"/>
          <p:cNvSpPr/>
          <p:nvPr/>
        </p:nvSpPr>
        <p:spPr>
          <a:xfrm>
            <a:off x="6269400" y="4292640"/>
            <a:ext cx="729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db523"/>
                </a:solidFill>
                <a:uFillTx/>
                <a:latin typeface="Times New Roman"/>
                <a:hlinkClick r:id="rId10" action="ppaction://hlinksldjump"/>
              </a:rPr>
              <a:t>下腹部</a:t>
            </a: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3BB97-0D02-40CD-8D88-CFDF132927E6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1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Verdana"/>
              </a:rPr>
              <a:t>案例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患者男性，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30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岁，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5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年前常因过劳、气候变化及饮食不洁而反复发作上腹部隐痛，疼痛多于餐后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3~4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小时发生，伴反酸、嗳气，进餐后缓解。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小时前大量饮酒后突感上腹部剧烈疼痛，恶心，呕吐血性胃内容物两次，约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100 ml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，急诊入院。查体：患者烦躁不安，皮肤湿冷、意识模糊，呼吸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40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次／分，尿少，血压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80/60mmHg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，脉搏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125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次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/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分，腹软，上腹偏右压痛，无反跳痛，无腹壁紧张，肠鸣音活跃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请思考：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1.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本患者可能发生什么情况？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2.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判断患者目前的出血量大约是多少？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3.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护士对该患者应该如何进行护理评估？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552E8-AE83-4306-84B9-3155AFC3AF90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9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左上腹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979640" y="1341000"/>
            <a:ext cx="5635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8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胃               结肠脾曲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8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脾               胰尾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8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左肾            左肾上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8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降结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46583-A5E8-4E1C-BFCB-ACD2812503DE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9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左侧腹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3131640" y="1557000"/>
            <a:ext cx="4859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降结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空肠或回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左肾下极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CBFF9-0680-422F-93C8-9A94C06FACA9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9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左下腹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2556000" y="1413000"/>
            <a:ext cx="54194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乙状结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淋巴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女性左侧卵巢及输卵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男性左侧精索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F31DC-93A4-4066-B66D-05DB0168A8B6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0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右上腹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700000" y="1413000"/>
            <a:ext cx="52750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肝右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胆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结肠肝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右肾上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右肾上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1A7A3-8B60-4418-9037-9A678F6E3602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0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右侧腹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3564000" y="1980720"/>
            <a:ext cx="5059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</a:rPr>
              <a:t>升结肠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</a:rPr>
              <a:t>空肠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</a:rPr>
              <a:t>右肾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0971C-9D95-426C-9E65-755ED0AAC509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1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下腹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3276360" y="1196640"/>
            <a:ext cx="4554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回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乙状结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输尿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增大的子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充盈的膀胱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700DC-3E2D-4535-BFCE-24D8E1873E3A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1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右下腹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2843280" y="1196640"/>
            <a:ext cx="6067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盲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阑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回肠下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淋巴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男性右侧精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女性右侧卵巢及输卵管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FDC03-BA7F-4D9A-8B3F-C2653F88810D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1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上腹部</a:t>
            </a:r>
            <a:r>
              <a:rPr b="0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2916000" y="1267920"/>
            <a:ext cx="505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肝左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十二指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横结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大网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胰头与胰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腹主动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5574A-23A6-444A-9016-415082E442AC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2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中腹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987280" y="1341000"/>
            <a:ext cx="469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十二指肠下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空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回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横结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下垂的胃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输尿管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肠系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腹主动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大网膜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F42D1-5B27-4131-8BFD-C33277DFD8F2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2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                         </a:t>
            </a: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七区分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38080" y="1341360"/>
            <a:ext cx="830592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在九区法的基础上，将两侧腹部的三区改为通过脐的水平线分成上下两区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左上腹部 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3" action="ppaction://hlinksldjump"/>
              </a:rPr>
              <a:t>左下腹部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4" action="ppaction://hlinksldjump"/>
              </a:rPr>
              <a:t>上腹部</a:t>
            </a:r>
            <a:r>
              <a:rPr b="0" lang="zh-CN" sz="24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5" action="ppaction://hlinksldjump"/>
              </a:rPr>
              <a:t>脐部      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6" action="ppaction://hlinksldjump"/>
              </a:rPr>
              <a:t>下腹部  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7" action="ppaction://hlinksldjump"/>
              </a:rPr>
              <a:t>右上腹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8" action="ppaction://hlinksldjump"/>
              </a:rPr>
              <a:t>右下腹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0" name="WordArt 4"/>
          <p:cNvSpPr txBox="1"/>
          <p:nvPr/>
        </p:nvSpPr>
        <p:spPr>
          <a:xfrm>
            <a:off x="5364000" y="3716280"/>
            <a:ext cx="1371600" cy="7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示意图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灯片编号占位符 1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DE990-45CB-4788-982B-C449EDFA6A93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21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00000" y="4042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黑体"/>
              </a:rPr>
              <a:t>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23" name="Group 4"/>
          <p:cNvGrpSpPr/>
          <p:nvPr/>
        </p:nvGrpSpPr>
        <p:grpSpPr>
          <a:xfrm>
            <a:off x="1819440" y="1787400"/>
            <a:ext cx="688320" cy="594000"/>
            <a:chOff x="1819440" y="1787400"/>
            <a:chExt cx="688320" cy="594000"/>
          </a:xfrm>
        </p:grpSpPr>
        <p:sp>
          <p:nvSpPr>
            <p:cNvPr id="124" name="AutoShape 5"/>
            <p:cNvSpPr/>
            <p:nvPr/>
          </p:nvSpPr>
          <p:spPr>
            <a:xfrm>
              <a:off x="1824840" y="1797480"/>
              <a:ext cx="682920" cy="583920"/>
            </a:xfrm>
            <a:prstGeom prst="hexagon">
              <a:avLst>
                <a:gd name="adj" fmla="val 29239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  <p:sp>
          <p:nvSpPr>
            <p:cNvPr id="125" name="AutoShape 6"/>
            <p:cNvSpPr/>
            <p:nvPr/>
          </p:nvSpPr>
          <p:spPr>
            <a:xfrm>
              <a:off x="1819440" y="1787400"/>
              <a:ext cx="682920" cy="583920"/>
            </a:xfrm>
            <a:prstGeom prst="hexagon">
              <a:avLst>
                <a:gd name="adj" fmla="val 29239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  <p:sp>
          <p:nvSpPr>
            <p:cNvPr id="126" name="AutoShape 7"/>
            <p:cNvSpPr/>
            <p:nvPr/>
          </p:nvSpPr>
          <p:spPr>
            <a:xfrm>
              <a:off x="1859400" y="1822320"/>
              <a:ext cx="600120" cy="513720"/>
            </a:xfrm>
            <a:prstGeom prst="hexagon">
              <a:avLst>
                <a:gd name="adj" fmla="val 2920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</p:grpSp>
      <p:sp>
        <p:nvSpPr>
          <p:cNvPr id="127" name="Text Box 8"/>
          <p:cNvSpPr/>
          <p:nvPr/>
        </p:nvSpPr>
        <p:spPr>
          <a:xfrm>
            <a:off x="1991520" y="1844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28" name="AutoShape 9"/>
          <p:cNvSpPr/>
          <p:nvPr/>
        </p:nvSpPr>
        <p:spPr>
          <a:xfrm>
            <a:off x="1819440" y="2549520"/>
            <a:ext cx="687240" cy="593640"/>
          </a:xfrm>
          <a:prstGeom prst="hexagon">
            <a:avLst>
              <a:gd name="adj" fmla="val 28942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29" name="Text Box 10"/>
          <p:cNvSpPr/>
          <p:nvPr/>
        </p:nvSpPr>
        <p:spPr>
          <a:xfrm>
            <a:off x="1979640" y="263700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30" name="Text Box 15"/>
          <p:cNvSpPr/>
          <p:nvPr/>
        </p:nvSpPr>
        <p:spPr>
          <a:xfrm>
            <a:off x="1835280" y="465300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31" name="Line 18"/>
          <p:cNvSpPr/>
          <p:nvPr/>
        </p:nvSpPr>
        <p:spPr>
          <a:xfrm>
            <a:off x="2556000" y="2349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32" name="Line 19"/>
          <p:cNvSpPr/>
          <p:nvPr/>
        </p:nvSpPr>
        <p:spPr>
          <a:xfrm>
            <a:off x="2556000" y="3141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33" name="Line 20"/>
          <p:cNvSpPr/>
          <p:nvPr/>
        </p:nvSpPr>
        <p:spPr>
          <a:xfrm>
            <a:off x="2556000" y="3933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34" name="Rectangle 3"/>
          <p:cNvSpPr/>
          <p:nvPr/>
        </p:nvSpPr>
        <p:spPr>
          <a:xfrm>
            <a:off x="2987640" y="4076640"/>
            <a:ext cx="3960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1360" indent="-711360" algn="ctr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35" name="AutoShape 16"/>
          <p:cNvSpPr/>
          <p:nvPr/>
        </p:nvSpPr>
        <p:spPr>
          <a:xfrm>
            <a:off x="1835280" y="3429000"/>
            <a:ext cx="679320" cy="593640"/>
          </a:xfrm>
          <a:prstGeom prst="hexagon">
            <a:avLst>
              <a:gd name="adj" fmla="val 28608"/>
              <a:gd name="vf" fmla="val 115470"/>
            </a:avLst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36" name="Text Box 10"/>
          <p:cNvSpPr/>
          <p:nvPr/>
        </p:nvSpPr>
        <p:spPr>
          <a:xfrm>
            <a:off x="1979640" y="350028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37" name="Rectangle 28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Verdana"/>
              </a:rPr>
              <a:t>目录</a:t>
            </a:r>
            <a:endParaRPr b="0" lang="en-US" sz="4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38" name="Line 20"/>
          <p:cNvSpPr/>
          <p:nvPr/>
        </p:nvSpPr>
        <p:spPr>
          <a:xfrm>
            <a:off x="2556000" y="472608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39" name="AutoShape 16"/>
          <p:cNvSpPr/>
          <p:nvPr/>
        </p:nvSpPr>
        <p:spPr>
          <a:xfrm>
            <a:off x="1835280" y="4221000"/>
            <a:ext cx="679320" cy="594000"/>
          </a:xfrm>
          <a:prstGeom prst="hexagon">
            <a:avLst>
              <a:gd name="adj" fmla="val 28591"/>
              <a:gd name="vf" fmla="val 115470"/>
            </a:avLst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40" name="Text Box 10"/>
          <p:cNvSpPr/>
          <p:nvPr/>
        </p:nvSpPr>
        <p:spPr>
          <a:xfrm>
            <a:off x="1979640" y="429264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41" name="Text Box 32"/>
          <p:cNvSpPr/>
          <p:nvPr/>
        </p:nvSpPr>
        <p:spPr>
          <a:xfrm>
            <a:off x="2741760" y="4168800"/>
            <a:ext cx="19746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ddb523"/>
                </a:solidFill>
                <a:uFillTx/>
                <a:latin typeface="Times New Roman"/>
                <a:hlinkClick r:id="rId6" action="ppaction://hlinksldjump"/>
              </a:rPr>
              <a:t>课后习题</a:t>
            </a:r>
            <a:endParaRPr b="0" lang="en-US" sz="2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42" name="Text Box 33"/>
          <p:cNvSpPr/>
          <p:nvPr/>
        </p:nvSpPr>
        <p:spPr>
          <a:xfrm>
            <a:off x="2916360" y="1844640"/>
            <a:ext cx="11509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ddb523"/>
                </a:solidFill>
                <a:uFillTx/>
                <a:latin typeface="Times New Roman"/>
                <a:hlinkClick r:id="rId7" action="ppaction://hlinksldjump"/>
              </a:rPr>
              <a:t>概述</a:t>
            </a:r>
            <a:endParaRPr b="0" lang="en-US" sz="2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43" name="Text Box 34"/>
          <p:cNvSpPr/>
          <p:nvPr/>
        </p:nvSpPr>
        <p:spPr>
          <a:xfrm>
            <a:off x="2627280" y="2565360"/>
            <a:ext cx="410364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ddb523"/>
                </a:solidFill>
                <a:uFillTx/>
                <a:latin typeface="Times New Roman"/>
                <a:hlinkClick r:id="rId8" action="ppaction://hlinksldjump"/>
              </a:rPr>
              <a:t>腹部的体表标志与分区</a:t>
            </a:r>
            <a:endParaRPr b="0" lang="en-US" sz="2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44" name="Text Box 35"/>
          <p:cNvSpPr/>
          <p:nvPr/>
        </p:nvSpPr>
        <p:spPr>
          <a:xfrm>
            <a:off x="2543040" y="3376440"/>
            <a:ext cx="38293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ddb523"/>
                </a:solidFill>
                <a:uFillTx/>
                <a:latin typeface="Times New Roman"/>
                <a:hlinkClick r:id="rId9" action="ppaction://hlinksldjump"/>
              </a:rPr>
              <a:t>腹部评估方法及内容</a:t>
            </a:r>
            <a:endParaRPr b="0" lang="en-US" sz="2800" spc="-1" strike="noStrike">
              <a:solidFill>
                <a:srgbClr val="046ca6"/>
              </a:solidFill>
              <a:latin typeface="Times New Roman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00360" y="1787400"/>
            <a:ext cx="688320" cy="594000"/>
            <a:chOff x="1800360" y="1787400"/>
            <a:chExt cx="688320" cy="594000"/>
          </a:xfrm>
        </p:grpSpPr>
        <p:sp>
          <p:nvSpPr>
            <p:cNvPr id="146" name="AutoShape 5"/>
            <p:cNvSpPr/>
            <p:nvPr/>
          </p:nvSpPr>
          <p:spPr>
            <a:xfrm>
              <a:off x="1805760" y="1797480"/>
              <a:ext cx="682920" cy="583920"/>
            </a:xfrm>
            <a:prstGeom prst="hexagon">
              <a:avLst>
                <a:gd name="adj" fmla="val 29239"/>
                <a:gd name="vf" fmla="val 115470"/>
              </a:avLst>
            </a:prstGeom>
            <a:blipFill rotWithShape="0">
              <a:blip r:embed="rId10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  <p:sp>
          <p:nvSpPr>
            <p:cNvPr id="147" name="AutoShape 6"/>
            <p:cNvSpPr/>
            <p:nvPr/>
          </p:nvSpPr>
          <p:spPr>
            <a:xfrm>
              <a:off x="1800360" y="1787400"/>
              <a:ext cx="682920" cy="583920"/>
            </a:xfrm>
            <a:prstGeom prst="hexagon">
              <a:avLst>
                <a:gd name="adj" fmla="val 29239"/>
                <a:gd name="vf" fmla="val 115470"/>
              </a:avLst>
            </a:prstGeom>
            <a:blipFill rotWithShape="0">
              <a:blip r:embed="rId1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  <p:sp>
          <p:nvSpPr>
            <p:cNvPr id="148" name="AutoShape 7"/>
            <p:cNvSpPr/>
            <p:nvPr/>
          </p:nvSpPr>
          <p:spPr>
            <a:xfrm>
              <a:off x="1840320" y="1822320"/>
              <a:ext cx="600120" cy="513720"/>
            </a:xfrm>
            <a:prstGeom prst="hexagon">
              <a:avLst>
                <a:gd name="adj" fmla="val 29205"/>
                <a:gd name="vf" fmla="val 115470"/>
              </a:avLst>
            </a:prstGeom>
            <a:blipFill rotWithShape="0">
              <a:blip r:embed="rId1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</p:grpSp>
      <p:sp>
        <p:nvSpPr>
          <p:cNvPr id="149" name="Text Box 8"/>
          <p:cNvSpPr/>
          <p:nvPr/>
        </p:nvSpPr>
        <p:spPr>
          <a:xfrm>
            <a:off x="1972440" y="1844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50" name="Line 18"/>
          <p:cNvSpPr/>
          <p:nvPr/>
        </p:nvSpPr>
        <p:spPr>
          <a:xfrm>
            <a:off x="2536920" y="2349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51" name="Text Box 42"/>
          <p:cNvSpPr/>
          <p:nvPr/>
        </p:nvSpPr>
        <p:spPr>
          <a:xfrm>
            <a:off x="2897280" y="1844640"/>
            <a:ext cx="11509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ddb523"/>
                </a:solidFill>
                <a:uFillTx/>
                <a:latin typeface="Times New Roman"/>
                <a:hlinkClick r:id="rId13" action="ppaction://hlinksldjump"/>
              </a:rPr>
              <a:t>概述</a:t>
            </a:r>
            <a:endParaRPr b="0" lang="en-US" sz="2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52" name="WordArt 46"/>
          <p:cNvSpPr txBox="1"/>
          <p:nvPr/>
        </p:nvSpPr>
        <p:spPr>
          <a:xfrm>
            <a:off x="5076720" y="5229360"/>
            <a:ext cx="194328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宋体"/>
              </a:rPr>
              <a:t>课后小结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E2544-5FD3-4CCB-BAD9-7C9E6959D1A7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3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99640" y="2599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                 </a:t>
            </a: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左上腹部</a:t>
            </a:r>
            <a:r>
              <a:rPr b="0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     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2285640" y="2819160"/>
            <a:ext cx="655308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脾、胃、左肾、左肾上腺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胰尾、结肠脾曲、降结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A2FB1-5407-420D-B1F6-FC3CCB774E0F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3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99640" y="33336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                </a:t>
            </a: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左下腹部</a:t>
            </a:r>
            <a:r>
              <a:rPr b="0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  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739880" y="2650680"/>
            <a:ext cx="7175520" cy="33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降结肠、乙状结肠、左输尿管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女性左侧卵巢及输卵管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男性左侧精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5073B-5B61-446F-A5E0-0D5190C4E975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4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692360" y="33336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上腹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980720" y="2666520"/>
            <a:ext cx="670572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胃、肝左叶、十二指肠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胰头和胰体、横结肠、腹主动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23C57-FB4C-4508-9FDC-FD5C20C1585D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4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                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脐部</a:t>
            </a:r>
            <a:r>
              <a:rPr b="0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          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371600" y="22096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十二指肠下部、空肠及回肠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下垂的胃或横结肠、腹主动脉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肠系膜及其淋巴结、大网膜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9C29E-DC49-4761-B36B-E9E64E57386B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4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142640" y="33336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                   </a:t>
            </a: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下腹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1371600" y="2514240"/>
            <a:ext cx="72388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回肠、乙状结肠及直肠、输尿管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胀大的膀胱和增大的子宫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92DEB-A96B-47B2-889B-ED0E1E86C985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5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2268360" y="259920"/>
            <a:ext cx="655344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右上腹部</a:t>
            </a:r>
            <a:r>
              <a:rPr b="0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2437920" y="2742840"/>
            <a:ext cx="586764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肝右叶、胆囊、右肾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右肾上腺、结肠肝曲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07122-7B94-45C2-BAAF-714D33551552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5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99640" y="33336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                </a:t>
            </a: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右下腹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2077560" y="2330280"/>
            <a:ext cx="6583320" cy="391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回盲部、阑尾、右输尿管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女性右侧卵巢及输卵管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男性右侧精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B856B-0722-4FC2-B129-B2332A0FA998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6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2626920" y="259920"/>
            <a:ext cx="61722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视诊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2285640" y="2209680"/>
            <a:ext cx="34290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ffcc"/>
                </a:solidFill>
                <a:latin typeface="Verdana"/>
              </a:rPr>
              <a:t>    </a:t>
            </a:r>
            <a:r>
              <a:rPr b="1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正常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ffcc"/>
                </a:solidFill>
                <a:latin typeface="Verdana"/>
              </a:rPr>
              <a:t>   </a:t>
            </a:r>
            <a:r>
              <a:rPr b="1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3" action="ppaction://hlinksldjump"/>
              </a:rPr>
              <a:t>异常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63" name="Picture 4" descr="太阳花"/>
          <p:cNvPicPr/>
          <p:nvPr/>
        </p:nvPicPr>
        <p:blipFill>
          <a:blip r:embed="rId4"/>
          <a:stretch/>
        </p:blipFill>
        <p:spPr>
          <a:xfrm>
            <a:off x="5867280" y="2057400"/>
            <a:ext cx="2590920" cy="251460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6" descr="wbw02slg"/>
          <p:cNvPicPr/>
          <p:nvPr/>
        </p:nvPicPr>
        <p:blipFill>
          <a:blip r:embed="rId5"/>
          <a:stretch/>
        </p:blipFill>
        <p:spPr>
          <a:xfrm>
            <a:off x="2268360" y="4292640"/>
            <a:ext cx="285840" cy="28584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7" descr="wbw02slg"/>
          <p:cNvPicPr/>
          <p:nvPr/>
        </p:nvPicPr>
        <p:blipFill>
          <a:blip r:embed="rId6"/>
          <a:stretch/>
        </p:blipFill>
        <p:spPr>
          <a:xfrm>
            <a:off x="2340000" y="2565360"/>
            <a:ext cx="285840" cy="28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ACFB3-441D-4051-9F74-8E09D6369F98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6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826560" y="2599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                  </a:t>
            </a: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正常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903600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正常人腹部外形对称，一般描述为平坦、凹陷、膨隆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发育营养良好的青壮年前腹壁与肋缘至耻骨大致位于同一水平面，称为腹部平坦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小儿及肥胖者前腹壁可高于肋缘至耻骨的平面，脐部多呈凹陷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前腹壁稍低于肋缘至耻骨的平面称为腹部低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腹部明显膨隆或凹陷具有病理意义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339E3-0658-4D14-AAFC-F260E62AB8DB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7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123640" y="333360"/>
            <a:ext cx="6629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                </a:t>
            </a: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异常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124080" y="1828440"/>
            <a:ext cx="4572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腹部膨隆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3" action="ppaction://hlinksldjump"/>
              </a:rPr>
              <a:t>腹部凹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4" action="ppaction://hlinksldjump"/>
              </a:rPr>
              <a:t>腹式呼吸消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5" action="ppaction://hlinksldjump"/>
              </a:rPr>
              <a:t>腹壁静脉曲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6" action="ppaction://hlinksldjump"/>
              </a:rPr>
              <a:t>胃肠蠕动波及肠型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78E35-19C9-4513-9F22-ADABC0927D29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5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腹部评估方法及内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33520" y="112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腹部评估前，应嘱被评估者排空小便，被评估者取仰卧位，置一小枕于头下，两手自然放于躯干两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评估者可与被评估者进行简单的交谈以帮助被评估者放松腹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腹部评估方法仍然采用视诊、触诊、叩诊及听诊等基本方法。其中以触诊最为重要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7" name="AutoShape 3">
            <a:hlinkClick r:id="rId2"/>
          </p:cNvPr>
          <p:cNvSpPr/>
          <p:nvPr/>
        </p:nvSpPr>
        <p:spPr>
          <a:xfrm>
            <a:off x="755640" y="5516640"/>
            <a:ext cx="1728720" cy="936720"/>
          </a:xfrm>
          <a:prstGeom prst="diamond">
            <a:avLst/>
          </a:prstGeom>
          <a:gradFill rotWithShape="0">
            <a:gsLst>
              <a:gs pos="0">
                <a:srgbClr val="ffffff"/>
              </a:gs>
              <a:gs pos="100000">
                <a:srgbClr val="c1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ddb523"/>
                </a:solidFill>
                <a:uFillTx/>
                <a:latin typeface="黑体"/>
                <a:ea typeface="黑体"/>
                <a:hlinkClick r:id="rId3" action="ppaction://hlinksldjump"/>
              </a:rPr>
              <a:t>视诊</a:t>
            </a:r>
            <a:endParaRPr b="0" lang="en-US" sz="2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58" name="AutoShape 3">
            <a:hlinkClick r:id="rId4"/>
          </p:cNvPr>
          <p:cNvSpPr/>
          <p:nvPr/>
        </p:nvSpPr>
        <p:spPr>
          <a:xfrm>
            <a:off x="2700360" y="5516640"/>
            <a:ext cx="1728720" cy="936720"/>
          </a:xfrm>
          <a:prstGeom prst="diamond">
            <a:avLst/>
          </a:prstGeom>
          <a:gradFill rotWithShape="0">
            <a:gsLst>
              <a:gs pos="0">
                <a:srgbClr val="ffffff"/>
              </a:gs>
              <a:gs pos="100000">
                <a:srgbClr val="c1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ddb523"/>
                </a:solidFill>
                <a:uFillTx/>
                <a:latin typeface="黑体"/>
                <a:ea typeface="黑体"/>
                <a:hlinkClick r:id="rId5" action="ppaction://hlinksldjump"/>
              </a:rPr>
              <a:t>触诊</a:t>
            </a:r>
            <a:endParaRPr b="0" lang="en-US" sz="2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59" name="AutoShape 3">
            <a:hlinkClick r:id="rId6"/>
          </p:cNvPr>
          <p:cNvSpPr/>
          <p:nvPr/>
        </p:nvSpPr>
        <p:spPr>
          <a:xfrm>
            <a:off x="4716360" y="5516640"/>
            <a:ext cx="1728720" cy="936720"/>
          </a:xfrm>
          <a:prstGeom prst="diamond">
            <a:avLst/>
          </a:prstGeom>
          <a:gradFill rotWithShape="0">
            <a:gsLst>
              <a:gs pos="0">
                <a:srgbClr val="ffffff"/>
              </a:gs>
              <a:gs pos="100000">
                <a:srgbClr val="c1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ddb523"/>
                </a:solidFill>
                <a:uFillTx/>
                <a:latin typeface="黑体"/>
                <a:ea typeface="黑体"/>
                <a:hlinkClick r:id="rId7" action="ppaction://hlinksldjump"/>
              </a:rPr>
              <a:t>叩诊</a:t>
            </a:r>
            <a:endParaRPr b="0" lang="en-US" sz="2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60" name="AutoShape 3">
            <a:hlinkClick r:id="rId8"/>
          </p:cNvPr>
          <p:cNvSpPr/>
          <p:nvPr/>
        </p:nvSpPr>
        <p:spPr>
          <a:xfrm>
            <a:off x="6732720" y="5516640"/>
            <a:ext cx="1728720" cy="936720"/>
          </a:xfrm>
          <a:prstGeom prst="diamond">
            <a:avLst/>
          </a:prstGeom>
          <a:gradFill rotWithShape="0">
            <a:gsLst>
              <a:gs pos="0">
                <a:srgbClr val="ffffff"/>
              </a:gs>
              <a:gs pos="100000">
                <a:srgbClr val="c1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ddb523"/>
                </a:solidFill>
                <a:uFillTx/>
                <a:latin typeface="黑体"/>
                <a:ea typeface="黑体"/>
                <a:hlinkClick r:id="rId9" action="ppaction://hlinksldjump"/>
              </a:rPr>
              <a:t>听诊</a:t>
            </a:r>
            <a:endParaRPr b="0" lang="en-US" sz="2800" spc="-1" strike="noStrike">
              <a:solidFill>
                <a:srgbClr val="046ca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3534B-ABF3-4F5B-B274-2448695F943A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7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142640" y="2599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            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腹部膨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2742840" y="2209680"/>
            <a:ext cx="5791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肥胖、妊娠晚期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大量腹水、巨大肿瘤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512D4-5F00-401F-81FB-DD04386DBE98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7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142640" y="2599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            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腹部凹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981080" y="2666520"/>
            <a:ext cx="4967280" cy="32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见于极度消瘦或严重脱水者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重者呈</a:t>
            </a:r>
            <a:r>
              <a:rPr b="0" lang="zh-CN" sz="2800" spc="-1" strike="noStrike">
                <a:solidFill>
                  <a:srgbClr val="8ac8de"/>
                </a:solidFill>
                <a:latin typeface="Arial"/>
              </a:rPr>
              <a:t>“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舟状腹</a:t>
            </a:r>
            <a:r>
              <a:rPr b="0" lang="zh-CN" sz="2800" spc="-1" strike="noStrike">
                <a:solidFill>
                  <a:srgbClr val="8ac8de"/>
                </a:solidFill>
                <a:latin typeface="Arial"/>
              </a:rPr>
              <a:t>”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A77EF-111C-43D2-BDBC-1CC71FE98465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8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899640" y="33336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          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腹式呼吸消失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371600" y="2209680"/>
            <a:ext cx="6369120" cy="374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见于腹膜炎，腹肌和膈肌痉挛、强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如胃穿孔、急性腹膜炎、腹水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B5B49-5D25-49E3-ACAA-C46E00A076B3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8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99640" y="2599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            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腹壁静脉曲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828800" y="1981080"/>
            <a:ext cx="64008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正常人腹壁静脉一般看不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正常腹壁静脉血流方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3" action="ppaction://hlinksldjump"/>
              </a:rPr>
              <a:t>异常腹壁静脉血流方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4" action="ppaction://hlinksldjump"/>
              </a:rPr>
              <a:t>检查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61F19-E128-4DD6-B7EA-943FF22ADB2A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9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142640" y="2599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           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正常腹壁静脉血流方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〈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〉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脐水平线以上的静脉自下向上经腹         壁静脉和腋静脉          上腔静脉。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〈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〉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脐水平线以下的腹壁静脉自上而下经大隐静脉           下腔静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4" name="Line 4"/>
          <p:cNvSpPr/>
          <p:nvPr/>
        </p:nvSpPr>
        <p:spPr>
          <a:xfrm>
            <a:off x="5334120" y="2895480"/>
            <a:ext cx="990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95" name="Line 5"/>
          <p:cNvSpPr/>
          <p:nvPr/>
        </p:nvSpPr>
        <p:spPr>
          <a:xfrm>
            <a:off x="5181480" y="2971800"/>
            <a:ext cx="9907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96" name="Line 6"/>
          <p:cNvSpPr/>
          <p:nvPr/>
        </p:nvSpPr>
        <p:spPr>
          <a:xfrm>
            <a:off x="3851280" y="2708280"/>
            <a:ext cx="7621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97" name="Line 7"/>
          <p:cNvSpPr/>
          <p:nvPr/>
        </p:nvSpPr>
        <p:spPr>
          <a:xfrm>
            <a:off x="5029200" y="4495680"/>
            <a:ext cx="12193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98" name="Line 8"/>
          <p:cNvSpPr/>
          <p:nvPr/>
        </p:nvSpPr>
        <p:spPr>
          <a:xfrm>
            <a:off x="2411280" y="4724280"/>
            <a:ext cx="106704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51634-3D99-40B3-BA77-ED2B2BF8ACE3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0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899640" y="2599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          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异常腹壁静脉血流方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2843280" y="1989000"/>
            <a:ext cx="4473360" cy="375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门脉阻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3" action="ppaction://hlinksldjump"/>
              </a:rPr>
              <a:t>下腔静脉阻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4" action="ppaction://hlinksldjump"/>
              </a:rPr>
              <a:t>上腔静脉阻塞</a:t>
            </a:r>
            <a:r>
              <a:rPr b="0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5" action="ppaction://hlinksldjump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C2FB7-F152-44C6-A2D1-2AF2C7583777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0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               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门脉阻塞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</a:rPr>
              <a:t>门脉高压形成侧支循环时，曲张的静脉以脐为中心向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</a:rPr>
              <a:t>四周伸展，血液的流向为脐静脉                   脐孔  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zh-CN" sz="2000" spc="-1" strike="noStrike">
                <a:solidFill>
                  <a:srgbClr val="8ac8de"/>
                </a:solidFill>
                <a:latin typeface="Verdana"/>
              </a:rPr>
              <a:t>扩张的腹部浅表静脉：  </a:t>
            </a:r>
            <a:r>
              <a:rPr b="0" lang="en-US" sz="20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</a:rPr>
              <a:t>）向上流入胸壁静脉、腋静脉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</a:rPr>
              <a:t>                                  </a:t>
            </a:r>
            <a:r>
              <a:rPr b="0" lang="en-US" sz="20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</a:rPr>
              <a:t>） 向下流入大隐静脉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7" name="Line 4"/>
          <p:cNvSpPr/>
          <p:nvPr/>
        </p:nvSpPr>
        <p:spPr>
          <a:xfrm>
            <a:off x="4500720" y="2637000"/>
            <a:ext cx="137160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pic>
        <p:nvPicPr>
          <p:cNvPr id="408" name="Picture 5" descr=""/>
          <p:cNvPicPr/>
          <p:nvPr/>
        </p:nvPicPr>
        <p:blipFill>
          <a:blip r:embed="rId2"/>
          <a:stretch/>
        </p:blipFill>
        <p:spPr>
          <a:xfrm>
            <a:off x="1103400" y="3860640"/>
            <a:ext cx="1941480" cy="2325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A1308-34FC-4324-A627-7FAD62AF19FE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1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142640" y="2599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                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下腔静脉阻塞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899640" y="1484280"/>
            <a:ext cx="77043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曲张的静脉大都分布在腹壁两侧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脐水平线以下的静脉血液的流向不是向下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而是向上流入胸壁静脉和腋静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413" name="Picture 4" descr=""/>
          <p:cNvPicPr/>
          <p:nvPr/>
        </p:nvPicPr>
        <p:blipFill>
          <a:blip r:embed="rId2"/>
          <a:stretch/>
        </p:blipFill>
        <p:spPr>
          <a:xfrm>
            <a:off x="6659640" y="3933720"/>
            <a:ext cx="1901880" cy="230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D946C-5AD0-47AF-B8E4-18EC23F13BFD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1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142640" y="2599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             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上腔静脉阻塞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900000" y="1484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上腹部的静脉血流方向不是向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而是向下流入腹壁静脉和大隐静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418" name="Picture 4" descr=""/>
          <p:cNvPicPr/>
          <p:nvPr/>
        </p:nvPicPr>
        <p:blipFill>
          <a:blip r:embed="rId3"/>
          <a:stretch/>
        </p:blipFill>
        <p:spPr>
          <a:xfrm>
            <a:off x="6156360" y="3573360"/>
            <a:ext cx="2070000" cy="2506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CE4DC-C870-4A83-9F72-32D3E61C9792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2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检查方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评估者用右手示指和中指并拢紧压在一段无分支的静脉上，其中一只手指紧紧压住静脉并向外滑动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～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5cm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，挤出静脉内血液；然后放松该手指，另一手指紧压不动，看静脉是否迅速充盈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再用同样的方法放松另一手指，根据血流的充盈情况可判断出血流方向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423" name="Picture 4" descr=""/>
          <p:cNvPicPr/>
          <p:nvPr/>
        </p:nvPicPr>
        <p:blipFill>
          <a:blip r:embed="rId2"/>
          <a:srcRect l="0" t="0" r="7538" b="0"/>
          <a:stretch/>
        </p:blipFill>
        <p:spPr>
          <a:xfrm>
            <a:off x="900000" y="4869000"/>
            <a:ext cx="1511280" cy="119196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5" descr="D:\z\2006-12-22\照片-诊断 006 副本.jpg"/>
          <p:cNvPicPr/>
          <p:nvPr/>
        </p:nvPicPr>
        <p:blipFill>
          <a:blip r:embed="rId3"/>
          <a:stretch/>
        </p:blipFill>
        <p:spPr>
          <a:xfrm>
            <a:off x="3419640" y="4581360"/>
            <a:ext cx="1873080" cy="157320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6" descr=""/>
          <p:cNvPicPr/>
          <p:nvPr/>
        </p:nvPicPr>
        <p:blipFill>
          <a:blip r:embed="rId4"/>
          <a:stretch/>
        </p:blipFill>
        <p:spPr>
          <a:xfrm>
            <a:off x="6227640" y="4869000"/>
            <a:ext cx="1441440" cy="10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B818C-BC1F-461F-AEF9-AB625B8FF441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6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概述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5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腹部位于横膈与骨盆之间，前面及侧面为腹壁，后面为脊柱及腰肌，内含腹膜腔和腹腔脏器等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5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腹腔脏器很多，互相交错重叠，正常脏器部分与肿块容易混淆，因此，仔细检查和辨认非常重要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5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检查腹部仍用视诊、触诊、叩诊、听诊等基本检查法，但以触诊最为重要，需要反复实践才能掌握。并且还需借助实验室、影像学和内镜等检查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5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为了避免触诊引起胃肠蠕动增加，使肠鸣音发生变化，腹部检查的顺序为视、听、触、叩，但记录时为了统一格式仍按视、触、叩、听的顺序。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78077-52B1-4AF3-9FCE-DC66DD09AE37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2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899640" y="33336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        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胃肠蠕动波及肠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99072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正常人一般不易见到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极度消瘦者可见到胃肠蠕动波及肠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&lt;1&gt; 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肠梗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&lt;2&gt; 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3" action="ppaction://hlinksldjump"/>
              </a:rPr>
              <a:t>胃肠梗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B3DA7-3874-4170-B527-0FFDD55F1AD1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3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899640" y="33336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      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肠梗阻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990720" y="259056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在腹壁上可以看到肠蠕动波及肠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C12F7-7889-4576-A2EC-92A633FAF343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3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胃肠梗阻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1523520" y="220968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梗阻的上部蠕动增强，可出现蠕动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幽门梗阻时上腹部可见到胃蠕动波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自左向右移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A08F9-136A-4F7C-B4B4-6677D1050C15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3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608200" y="304560"/>
            <a:ext cx="63072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zh-CN" sz="3600" spc="-1" strike="noStrike" u="sng">
                <a:solidFill>
                  <a:srgbClr val="ddb523"/>
                </a:solidFill>
                <a:uFillTx/>
                <a:latin typeface="Arial"/>
                <a:hlinkClick r:id="rId1" action="ppaction://hlinksldjump"/>
              </a:rPr>
              <a:t>触诊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971640" y="134136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2332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一  </a:t>
            </a:r>
            <a:r>
              <a:rPr b="1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腹壁紧张度、压痛、反跳痛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332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二  </a:t>
            </a:r>
            <a:r>
              <a:rPr b="1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3" action="ppaction://hlinksldjump"/>
              </a:rPr>
              <a:t>腹部肿快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332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三  </a:t>
            </a:r>
            <a:r>
              <a:rPr b="1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4" action="ppaction://hlinksldjump"/>
              </a:rPr>
              <a:t>肝脏触诊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332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四  </a:t>
            </a:r>
            <a:r>
              <a:rPr b="1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5" action="ppaction://hlinksldjump"/>
              </a:rPr>
              <a:t>胆囊触诊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332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五  </a:t>
            </a:r>
            <a:r>
              <a:rPr b="1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6" action="ppaction://hlinksldjump"/>
              </a:rPr>
              <a:t>脾触诊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332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六  </a:t>
            </a:r>
            <a:r>
              <a:rPr b="1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7" action="ppaction://hlinksldjump"/>
              </a:rPr>
              <a:t>肾触诊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332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七  </a:t>
            </a:r>
            <a:r>
              <a:rPr b="1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8" action="ppaction://hlinksldjump"/>
              </a:rPr>
              <a:t>膀胱触诊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332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332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332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332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332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2" name="Rectangle 22"/>
          <p:cNvSpPr/>
          <p:nvPr/>
        </p:nvSpPr>
        <p:spPr>
          <a:xfrm>
            <a:off x="4414680" y="3271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F5AE7-34FF-4486-8E51-B86A84113CD1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4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腹壁紧张度、压痛、反跳痛  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1371600" y="19047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  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腹肌紧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  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3" action="ppaction://hlinksldjump"/>
              </a:rPr>
              <a:t>压痛、反跳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D64C9-8296-4C5D-8C7F-2C458427A186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4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腹肌紧张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腹内有炎症时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腹肌可因反射性痉挛而使腹壁变硬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&lt;1&gt; 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3" action="ppaction://hlinksldjump"/>
              </a:rPr>
              <a:t>腹壁紧张度增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&lt;2&gt; 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4" action="ppaction://hlinksldjump"/>
              </a:rPr>
              <a:t>腹壁紧张度减弱或消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C7D9D-7C0A-4D52-8049-1A06458963FA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5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腹壁紧张度增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腹壁紧张分两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① </a:t>
            </a:r>
            <a:r>
              <a:rPr b="0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局限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② </a:t>
            </a:r>
            <a:r>
              <a:rPr b="0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3" action="ppaction://hlinksldjump"/>
              </a:rPr>
              <a:t>弥漫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9FC62-BA40-497D-824F-DB1F904E2EAD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5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局限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838080" y="22096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见于某一脏器的炎症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如急性阑尾炎           右下腹局限性压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急性胆囊炎              右上腹紧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59" name="Line 4"/>
          <p:cNvSpPr/>
          <p:nvPr/>
        </p:nvSpPr>
        <p:spPr>
          <a:xfrm>
            <a:off x="3635280" y="3429000"/>
            <a:ext cx="83844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60" name="Line 5"/>
          <p:cNvSpPr/>
          <p:nvPr/>
        </p:nvSpPr>
        <p:spPr>
          <a:xfrm>
            <a:off x="3419640" y="4508640"/>
            <a:ext cx="106668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F498C-6429-4161-802C-1D5307825558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6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弥漫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914400" y="22096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急性弥漫性炎症所致： </a:t>
            </a:r>
            <a:r>
              <a:rPr b="0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板状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慢性弥漫性炎症所致：结腹出现揉面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466EE-FA64-4821-98EC-F2491101FBC4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6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板状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539280" y="1904760"/>
            <a:ext cx="8147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腹肌广泛性紧张硬如木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见于胃穿孔或其他原因引起的急性弥漫性腹膜炎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E6FAD-2121-4485-AC5C-F6F2EA765F8A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6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99640" y="2599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  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腹部的体表标志与分区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555640" y="1989000"/>
            <a:ext cx="42670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      </a:t>
            </a: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体表标志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</a:rPr>
              <a:t>     </a:t>
            </a:r>
            <a:r>
              <a:rPr b="1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3" action="ppaction://hlinksldjump"/>
              </a:rPr>
              <a:t>腹部分区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9" name="Text Box 30"/>
          <p:cNvSpPr/>
          <p:nvPr/>
        </p:nvSpPr>
        <p:spPr>
          <a:xfrm>
            <a:off x="684360" y="2852640"/>
            <a:ext cx="8001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70" name="AutoShape 16"/>
          <p:cNvSpPr/>
          <p:nvPr/>
        </p:nvSpPr>
        <p:spPr>
          <a:xfrm>
            <a:off x="2484360" y="2637000"/>
            <a:ext cx="679680" cy="593640"/>
          </a:xfrm>
          <a:prstGeom prst="hexagon">
            <a:avLst>
              <a:gd name="adj" fmla="val 28623"/>
              <a:gd name="vf" fmla="val 115470"/>
            </a:avLst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71" name="AutoShape 9"/>
          <p:cNvSpPr/>
          <p:nvPr/>
        </p:nvSpPr>
        <p:spPr>
          <a:xfrm>
            <a:off x="2484360" y="3933720"/>
            <a:ext cx="687600" cy="594000"/>
          </a:xfrm>
          <a:prstGeom prst="hexagon">
            <a:avLst>
              <a:gd name="adj" fmla="val 28939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72" name="Text Box 10"/>
          <p:cNvSpPr/>
          <p:nvPr/>
        </p:nvSpPr>
        <p:spPr>
          <a:xfrm>
            <a:off x="2627280" y="400536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73" name="Text Box 10"/>
          <p:cNvSpPr/>
          <p:nvPr/>
        </p:nvSpPr>
        <p:spPr>
          <a:xfrm>
            <a:off x="2627280" y="270828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</p:spTree>
  </p:cSld>
  <p:transition spd="med">
    <p:blinds dir="vert"/>
    <p:sndAc>
      <p:stSnd>
        <p:snd r:embed="rId5" name="chimes.wav"/>
      </p:stSnd>
    </p:sndAc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288FC-FF9B-4B68-B032-4CC86B8297E4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7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腹壁紧张度减弱或消失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914400" y="19047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多见于老年人，经产妇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慢性消耗性疾病及大量放腹水后的患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33BEC-12C9-482F-9F22-6FB9F82A328C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7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压痛、反跳痛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①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压痛：由浅入深按压，发生疼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② </a:t>
            </a:r>
            <a:r>
              <a:rPr b="1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反跳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③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腹壁压痛与腹腔脏器病变引起的压痛 </a:t>
            </a:r>
            <a:r>
              <a:rPr b="1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3" action="ppaction://hlinksldjump"/>
              </a:rPr>
              <a:t>二者鉴别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④ </a:t>
            </a:r>
            <a:r>
              <a:rPr b="1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4" action="ppaction://hlinksldjump"/>
              </a:rPr>
              <a:t>腹腔内重要脏器病变所致的压痛位置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25ECF-57CE-4AD3-963C-0124A023284E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7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反跳痛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4560" y="175248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4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触诊发现压痛后，手指在该处稍停片刻，然后将手迅速抬起，在这一瞬间患者感到腹痛加重，并有痛苦表情称之为反跳痛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炎症累及腹膜所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A64C6-E96D-4993-A0F1-01D4797DC634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8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二者鉴别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方法：将患者有压痛处的腹壁轻轻抓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起源于腹壁的压痛，疼痛更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起源于腹腔脏器的压痛，疼痛不加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7C28B-D74C-4C3D-BC2B-1105CE9B4CAE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8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腹腔内脏器病变所致的压痛位置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91440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 ⑴ 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急性胆囊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 ⑵ 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3" action="ppaction://hlinksldjump"/>
              </a:rPr>
              <a:t>急性胰腺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 ⑶ 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Times New Roman"/>
                <a:ea typeface="Times New Roman"/>
                <a:hlinkClick r:id="rId4" action="ppaction://hlinksldjump"/>
              </a:rPr>
              <a:t>消化性溃疡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Arial"/>
                <a:ea typeface="Times New Roman"/>
                <a:hlinkClick r:id="rId5" action="ppaction://hlinksldjump"/>
              </a:rPr>
              <a:t>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 ⑷ 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Times New Roman"/>
                <a:ea typeface="Times New Roman"/>
                <a:hlinkClick r:id="rId6" action="ppaction://hlinksldjump"/>
              </a:rPr>
              <a:t>急性阑尾炎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Arial"/>
                <a:ea typeface="Times New Roman"/>
                <a:hlinkClick r:id="rId7" action="ppaction://hlinksldjump"/>
              </a:rPr>
              <a:t>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 ⑸ 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8" action="ppaction://hlinksldjump"/>
              </a:rPr>
              <a:t>膀胱及子宫病变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Arial"/>
                <a:hlinkClick r:id="rId9" action="ppaction://hlinksldjump"/>
              </a:rPr>
              <a:t>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 ⑹ 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10" action="ppaction://hlinksldjump"/>
              </a:rPr>
              <a:t>腹内脏器肿瘤早期、腹部肠管蛔虫病、胆管蛔虫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 ⑺ 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11" action="ppaction://hlinksldjump"/>
              </a:rPr>
              <a:t>右肺下叶肺炎、右侧胸膜炎、心梗等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Arial"/>
                <a:hlinkClick r:id="rId12" action="ppaction://hlinksldjump"/>
              </a:rPr>
              <a:t>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5610E-34AC-4903-A8DC-4C4E862EFB88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9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急性胆囊炎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143000" y="2590920"/>
            <a:ext cx="6453360" cy="35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右侧腹直肌外缘与肋弓下缘交界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   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有明显压痛               胆囊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93" name="Line 4"/>
          <p:cNvSpPr/>
          <p:nvPr/>
        </p:nvSpPr>
        <p:spPr>
          <a:xfrm>
            <a:off x="3780000" y="3860640"/>
            <a:ext cx="121896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A0A35-EC91-4FCC-B59A-B97863E241B2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9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急性胰腺炎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914040" y="2209320"/>
            <a:ext cx="6970680" cy="36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上中腹部及偏左处有压痛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FF4C6-500A-46CD-A784-12F59D7B78C8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9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Times New Roman"/>
                <a:ea typeface="Times New Roman"/>
                <a:hlinkClick r:id="rId1" action="ppaction://hlinksldjump"/>
              </a:rPr>
              <a:t>消化性溃疡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Arial"/>
                <a:ea typeface="Times New Roman"/>
                <a:hlinkClick r:id="rId2" action="ppaction://hlinksldjump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914400" y="2590560"/>
            <a:ext cx="6826320" cy="335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常在剑突下或稍偏左、右处有压痛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07FDF-5057-4F14-84D8-55C25D6F458B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0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Times New Roman"/>
                <a:ea typeface="Times New Roman"/>
                <a:hlinkClick r:id="rId1" action="ppaction://hlinksldjump"/>
              </a:rPr>
              <a:t>急性阑尾炎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Arial"/>
                <a:ea typeface="Times New Roman"/>
                <a:hlinkClick r:id="rId2" action="ppaction://hlinksldjump"/>
              </a:rPr>
              <a:t> 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早期表现上腹部压痛及疼痛数小时后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局限于右下腹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右髂前上棘与脐的连线的外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/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与内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/3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交界处常有压痛       麦氏点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McBurney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06" name="Line 4"/>
          <p:cNvSpPr/>
          <p:nvPr/>
        </p:nvSpPr>
        <p:spPr>
          <a:xfrm>
            <a:off x="3780000" y="4869000"/>
            <a:ext cx="68580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6BA44-0027-4887-84D6-CFFAE920A7CC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0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膀胱及子宫病变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1752480" y="22096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下腹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883DE-47D0-4DC1-9077-FBDA682A2F0A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7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           </a:t>
            </a:r>
            <a:r>
              <a:rPr b="0" lang="zh-CN" sz="48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体表标志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523880" y="1447920"/>
            <a:ext cx="46483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0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耻骨联合</a:t>
            </a:r>
            <a:r>
              <a:rPr b="0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3" action="ppaction://hlinksldjump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4" action="ppaction://hlinksldjump"/>
              </a:rPr>
              <a:t>肋弓下缘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Arial"/>
                <a:hlinkClick r:id="rId5" action="ppaction://hlinksldjump"/>
              </a:rPr>
              <a:t>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6" action="ppaction://hlinksldjump"/>
              </a:rPr>
              <a:t>腹上角（胸骨下角）</a:t>
            </a:r>
            <a:r>
              <a:rPr b="0" lang="zh-CN" sz="24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7" action="ppaction://hlinksldjump"/>
              </a:rPr>
              <a:t>腹中线（腹白线）</a:t>
            </a:r>
            <a:r>
              <a:rPr b="0" lang="zh-CN" sz="24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8" action="ppaction://hlinksldjump"/>
              </a:rPr>
              <a:t>脐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Arial"/>
                <a:hlinkClick r:id="rId9" action="ppaction://hlinksldjump"/>
              </a:rPr>
              <a:t>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10" action="ppaction://hlinksldjump"/>
              </a:rPr>
              <a:t>髂前上棘</a:t>
            </a:r>
            <a:r>
              <a:rPr b="0" lang="zh-CN" sz="24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11" action="ppaction://hlinksldjump"/>
              </a:rPr>
              <a:t>腹直肌外缘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Arial"/>
                <a:hlinkClick r:id="rId12" action="ppaction://hlinksldjump"/>
              </a:rPr>
              <a:t>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13" action="ppaction://hlinksldjump"/>
              </a:rPr>
              <a:t>腹股沟韧带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Arial"/>
                <a:hlinkClick r:id="rId14" action="ppaction://hlinksldjump"/>
              </a:rPr>
              <a:t>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15" action="ppaction://hlinksldjump"/>
              </a:rPr>
              <a:t>肋脊角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8" name="WordArt 8"/>
          <p:cNvSpPr txBox="1"/>
          <p:nvPr/>
        </p:nvSpPr>
        <p:spPr>
          <a:xfrm rot="21346200">
            <a:off x="5181480" y="3429000"/>
            <a:ext cx="3200400" cy="76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ffff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宋体"/>
              </a:rPr>
              <a:t>体表标志示意图</a:t>
            </a:r>
            <a:endParaRPr b="0" lang="en-US" sz="2400" spc="1" strike="noStrike">
              <a:ln w="12600">
                <a:solidFill>
                  <a:srgbClr val="ffff00"/>
                </a:solidFill>
                <a:miter/>
              </a:ln>
              <a:blipFill rotWithShape="0">
                <a:blip r:embed="rId17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851D8-A71E-423E-86B4-931915D77FBE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1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腹内脏器肿瘤早期、_x000b_    腹部肠管蛔虫病、胆管蛔虫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1371600" y="2666520"/>
            <a:ext cx="6440400" cy="32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虽有腹痛，但无腹部压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01F42-5987-4601-947B-3458A99CBFAC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1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380880" y="333360"/>
            <a:ext cx="87631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右肺下叶肺炎、右侧胸膜炎、心梗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可引起腹部压痛（放射痛、牵涉痛）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B096C-AA99-4AEB-B970-A57FCDC3CCF2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2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腹部肿快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4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触诊时应注意肿快的位置、大小、形状、硬度、有无压痛与波动、能否移动、与周围器官和腹壁的关系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4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炎性肿块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4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3" action="ppaction://hlinksldjump"/>
              </a:rPr>
              <a:t>良性肿块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4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4" action="ppaction://hlinksldjump"/>
              </a:rPr>
              <a:t>恶性肿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3E167-26F4-418C-AB00-5006F9207CBC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2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炎性肿块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990720" y="2209680"/>
            <a:ext cx="7758000" cy="352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肿块与邻近组织粘连、压痛明显、不易推动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F1757-62A5-4514-9E16-86737A8AA9C9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2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良性肿块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94920" y="2209680"/>
            <a:ext cx="8497800" cy="381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边界清楚、表面光滑、质地不坚、压痛不著、活动度较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B4E24-0C85-4258-8280-C8F134D00377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3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恶性肿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914400" y="17524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包块巨大，边界模糊，表面不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质地坚硬，移动度差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F1AA1-A9A0-4588-A39C-6DCBFB3995B6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3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肝触诊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正常人深吸气时，可触及肝下缘，右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    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下不超过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厘米。剑突下不超过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厘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⑴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　</a:t>
            </a:r>
            <a:r>
              <a:rPr b="0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⑵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　</a:t>
            </a:r>
            <a:r>
              <a:rPr b="0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3" action="ppaction://hlinksldjump"/>
              </a:rPr>
              <a:t>肝触诊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45532-D635-4203-8EDF-2B75D259088F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4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1115640" y="1844640"/>
            <a:ext cx="4305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双手触诊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单手触诊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钩指触诊法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543" name="Picture 4" descr=""/>
          <p:cNvPicPr/>
          <p:nvPr/>
        </p:nvPicPr>
        <p:blipFill>
          <a:blip r:embed="rId2"/>
          <a:srcRect l="0" t="0" r="0" b="10696"/>
          <a:stretch/>
        </p:blipFill>
        <p:spPr>
          <a:xfrm>
            <a:off x="4859280" y="2852640"/>
            <a:ext cx="3313080" cy="207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47EB0-1A5D-408A-A498-E370ACD6750B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4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肝触诊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3203280" y="1412640"/>
            <a:ext cx="40482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大小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3" action="ppaction://hlinksldjump"/>
              </a:rPr>
              <a:t>质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4" action="ppaction://hlinksldjump"/>
              </a:rPr>
              <a:t>表面光滑度及边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5" action="ppaction://hlinksldjump"/>
              </a:rPr>
              <a:t>压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6" action="ppaction://hlinksldjump"/>
              </a:rPr>
              <a:t>肝颈静脉回流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7" action="ppaction://hlinksldjump"/>
              </a:rPr>
              <a:t>肝区腹膜摩擦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C96DD-E785-425D-AABF-9EF70610A504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4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质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1979640" y="1773000"/>
            <a:ext cx="64785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质软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: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口唇）正常肝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质韧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: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鼻尖）急性肝炎、脂肪肝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质硬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: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前额）肝硬化、肝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84D1C-2C00-4D26-AEC6-639893B9EDAE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8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42640" y="33336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                 </a:t>
            </a: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肋弓下缘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755280" y="1773000"/>
            <a:ext cx="83883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由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8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～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10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肋软骨构成，其下缘为体表腹部的上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用于腹部分区及肝脾的测量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DC1BD-CDBA-41B6-8914-4235ACADCFE6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5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大小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85440" y="22096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正常人深吸气时，可触及肝下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右肋下不超过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厘米，剑突下不超过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厘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BA6AE-BE8F-49C3-B695-FD22FB7CB8AD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5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表面光滑度及边缘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838080" y="184464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⑴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表面光滑、边缘规则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: 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正常肝、急性肝炎、肝淤血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⑵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表面不光滑，呈较均匀的小结节状，边缘不整且较薄者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: 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肝硬化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⑶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表面呈粗大不均匀的结节状，边缘厚薄不一致： 肝癌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AA426-1031-49A6-8BE3-461E284274B6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6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压痛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6840" y="22096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〉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正常无压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〉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肝炎、急性肝淤血、肝脓肿时有压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4C497-7FE5-4319-A128-5F89A943FE1E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6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肝颈静脉回流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6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用手按压肿大的肝时，颈静脉充盈较前更明显，停止按压时，颈静脉充盈复原，即为肝颈静脉回流征阳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6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是右心衰竭、心包积液或心包缩窄的一个重要体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6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05FAD-30FE-4B4E-B3DF-BF19EBAB4E03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6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肝区腹膜摩擦感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99072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让患者用力做腹式呼吸，此时如触及断续而粗糙的震动，即为肝区腹膜摩擦感。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肝周围炎时产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D85CE-1C66-4A54-9A01-10EF988C86CD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7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胆囊触诊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838080" y="18288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6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正常胆囊不能触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方法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6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3" action="ppaction://hlinksldjump"/>
              </a:rPr>
              <a:t>临床意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6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82C01-EF4F-49B6-8022-17B430EA4504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7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方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323640" y="1412640"/>
            <a:ext cx="84582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左手掌放于患者的右前胸下部，左拇指置于右肋下缘与腹直肌交界处，并按压腹部，嘱患者缓慢深呼吸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,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如在吸气过程中，患者因疼痛而突然终止吸气者称为莫菲征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Murphy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）阳性。为胆囊炎症所致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6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580" name="Picture 4" descr=""/>
          <p:cNvPicPr/>
          <p:nvPr/>
        </p:nvPicPr>
        <p:blipFill>
          <a:blip r:embed="rId2"/>
          <a:srcRect l="0" t="11885" r="8913" b="0"/>
          <a:stretch/>
        </p:blipFill>
        <p:spPr>
          <a:xfrm>
            <a:off x="4788000" y="3959280"/>
            <a:ext cx="3097080" cy="224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0E8C3-19A9-4A28-B1E3-BD41EE54ED8A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8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临床意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1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胆囊炎：肿大、囊性感，右上腹肌紧张压痛，莫菲征阳性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2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胰头癌压迫胆总管：胆囊肿大，进行性黄疸，胆囊大，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    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但无压痛            称为胆总管渐进阻塞征（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Courvoisier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）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3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胆总管结石：黄疸明显，胆囊常不肿大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    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（因慢性炎症， 胆囊纤维化而皱缩）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4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胆囊结石和胆囊癌时：胆囊肿大，有实体感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85" name="Line 4"/>
          <p:cNvSpPr/>
          <p:nvPr/>
        </p:nvSpPr>
        <p:spPr>
          <a:xfrm>
            <a:off x="2124000" y="3141720"/>
            <a:ext cx="7621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287F4-E2BE-4B90-847A-7F2A9EFE0E8A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8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脾触诊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6978600" cy="339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 algn="just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正常脾不能触及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 algn="just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脾触诊方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 algn="just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3" action="ppaction://hlinksldjump"/>
              </a:rPr>
              <a:t>脾大的测量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 algn="just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4" action="ppaction://hlinksldjump"/>
              </a:rPr>
              <a:t>脾大的分度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 algn="just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5" action="ppaction://hlinksldjump"/>
              </a:rPr>
              <a:t>脾大及伴随症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8440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2E6FB-8536-4C74-B672-A9C881613B0C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9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脾触诊方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通常脾触诊采用单手触诊法及双手触诊法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脾明显肿大，位置较表浅时，用单手触诊稍用力即可触到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脾轻度肿大，并且位置较深，则需要用双手触诊法进行，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被评估者采取仰卧位，双腿稍屈曲，使腹壁松弛，评估者位于右侧，左手置于被评估者左季肋部第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7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～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10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肋处的侧后方，将脾脏由后向前托起，右手平放腹部与右肋弓垂直，从髂前上棘连线水平开始随被评估者腹式呼吸自下而上进行触诊，直至触到脾下缘或右肋弓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594" name="Picture 4" descr=""/>
          <p:cNvPicPr/>
          <p:nvPr/>
        </p:nvPicPr>
        <p:blipFill>
          <a:blip r:embed="rId2"/>
          <a:stretch/>
        </p:blipFill>
        <p:spPr>
          <a:xfrm>
            <a:off x="6227640" y="4797360"/>
            <a:ext cx="175284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5T02:43:28Z</dcterms:created>
  <dc:creator>李晓慧</dc:creator>
  <dc:description/>
  <dc:language>en-US</dc:language>
  <cp:lastModifiedBy>赵欣</cp:lastModifiedBy>
  <dcterms:modified xsi:type="dcterms:W3CDTF">2015-12-16T09:06:23Z</dcterms:modified>
  <cp:revision>98</cp:revision>
  <dc:subject/>
  <dc:title>腹部检查</dc:title>
</cp:coreProperties>
</file>